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2C67-C0C3-4798-895A-C7BABBCA3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F7E3-1422-4121-BDF3-793470D5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DBF1-F280-43DC-A48A-72D23A965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D8F8-7CC2-434C-9459-B009D25FC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44B85-35E8-43E8-9D55-D911BF64F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898D-04FC-4422-9B0A-881B554F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C823-A8AA-4CEB-B3DC-D9D5A974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0F42-D371-4242-B835-709E2D77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23AE-048E-4425-A24E-D221AB94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EA11-D364-4FDA-B2CD-FABDA3BA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CC9F-2F27-455B-A872-5FCD7988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915A-41A1-4A65-9188-9D86DC60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55CC-C11D-4838-AFD6-32F850BD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48CC-DC7B-4370-AD30-CF10FC2F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9782-2886-4BBC-BA10-A019DB82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3919-1AE4-4FC7-8FCA-A669B8064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DFF0-5AEF-4408-A06C-A465C5418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1223-97CE-46B7-AA96-E36CD2F4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685D-025D-4B24-AAB0-6F5E6744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B6D5-0750-4DF0-B021-9A6D95BB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5505-9DF3-4342-BBF9-8B33FF21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8090-6C15-40E9-AAB6-68D46C32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9CFE-FA3A-43A2-B881-D68DDD96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0B92-1E0F-4AF9-B642-A2C2FDAB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32F8-7D13-41C4-B915-3E86ABC06BE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97D0-62DF-4382-8D61-DA0412E57F4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ourse 1 Dec. 8, 2011 Warm-up: Solve the Addition Equ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) 12 + h = 2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) j + 1.3 = 3.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) n + 18 = 4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1044720" y="1660680"/>
            <a:ext cx="455400" cy="188640"/>
          </a:xfrm>
          <a:custGeom>
            <a:avLst/>
            <a:gdLst/>
            <a:ahLst/>
            <a:rect l="l" t="t" r="r" b="b"/>
            <a:pathLst>
              <a:path w="1266" h="522">
                <a:moveTo>
                  <a:pt x="2902" y="4837"/>
                </a:moveTo>
                <a:cubicBezTo>
                  <a:pt x="2983" y="4897"/>
                  <a:pt x="3125" y="4862"/>
                  <a:pt x="3225" y="4862"/>
                </a:cubicBezTo>
                <a:cubicBezTo>
                  <a:pt x="3241" y="4862"/>
                  <a:pt x="3258" y="4862"/>
                  <a:pt x="3274" y="4862"/>
                </a:cubicBezTo>
              </a:path>
              <a:path w="1266" h="522">
                <a:moveTo>
                  <a:pt x="3473" y="4762"/>
                </a:moveTo>
                <a:cubicBezTo>
                  <a:pt x="3473" y="4886"/>
                  <a:pt x="3473" y="5011"/>
                  <a:pt x="3473" y="5135"/>
                </a:cubicBezTo>
              </a:path>
              <a:path w="1266" h="522">
                <a:moveTo>
                  <a:pt x="3696" y="4663"/>
                </a:moveTo>
                <a:cubicBezTo>
                  <a:pt x="3793" y="4633"/>
                  <a:pt x="3868" y="4620"/>
                  <a:pt x="3969" y="4614"/>
                </a:cubicBezTo>
                <a:cubicBezTo>
                  <a:pt x="4024" y="4814"/>
                  <a:pt x="3933" y="4897"/>
                  <a:pt x="3820" y="5060"/>
                </a:cubicBezTo>
                <a:cubicBezTo>
                  <a:pt x="3803" y="5085"/>
                  <a:pt x="3787" y="5110"/>
                  <a:pt x="3770" y="5135"/>
                </a:cubicBezTo>
                <a:cubicBezTo>
                  <a:pt x="3901" y="5118"/>
                  <a:pt x="4015" y="5067"/>
                  <a:pt x="4142" y="5035"/>
                </a:cubicBezTo>
                <a:cubicBezTo>
                  <a:pt x="4150" y="5035"/>
                  <a:pt x="4159" y="5035"/>
                  <a:pt x="4167" y="50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14720" y="1625760"/>
            <a:ext cx="527040" cy="196560"/>
          </a:xfrm>
          <a:custGeom>
            <a:avLst/>
            <a:gdLst/>
            <a:ahLst/>
            <a:rect l="l" t="t" r="r" b="b"/>
            <a:pathLst>
              <a:path w="1464" h="547">
                <a:moveTo>
                  <a:pt x="6152" y="4862"/>
                </a:moveTo>
                <a:cubicBezTo>
                  <a:pt x="6312" y="4862"/>
                  <a:pt x="6465" y="4846"/>
                  <a:pt x="6623" y="4837"/>
                </a:cubicBezTo>
              </a:path>
              <a:path w="1464" h="547">
                <a:moveTo>
                  <a:pt x="6772" y="4564"/>
                </a:moveTo>
                <a:cubicBezTo>
                  <a:pt x="6772" y="4724"/>
                  <a:pt x="6779" y="4877"/>
                  <a:pt x="6796" y="5035"/>
                </a:cubicBezTo>
                <a:cubicBezTo>
                  <a:pt x="6796" y="5043"/>
                  <a:pt x="6796" y="5052"/>
                  <a:pt x="6796" y="5060"/>
                </a:cubicBezTo>
              </a:path>
              <a:path w="1464" h="547">
                <a:moveTo>
                  <a:pt x="7069" y="4539"/>
                </a:moveTo>
                <a:cubicBezTo>
                  <a:pt x="7138" y="4505"/>
                  <a:pt x="7292" y="4487"/>
                  <a:pt x="7367" y="4539"/>
                </a:cubicBezTo>
                <a:cubicBezTo>
                  <a:pt x="7542" y="4661"/>
                  <a:pt x="7255" y="4903"/>
                  <a:pt x="7193" y="4986"/>
                </a:cubicBezTo>
                <a:cubicBezTo>
                  <a:pt x="7193" y="4994"/>
                  <a:pt x="7193" y="5003"/>
                  <a:pt x="7193" y="5011"/>
                </a:cubicBezTo>
                <a:cubicBezTo>
                  <a:pt x="7236" y="5009"/>
                  <a:pt x="7622" y="5003"/>
                  <a:pt x="7615" y="5011"/>
                </a:cubicBezTo>
                <a:cubicBezTo>
                  <a:pt x="7590" y="5019"/>
                  <a:pt x="7566" y="5027"/>
                  <a:pt x="7541" y="50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1973160"/>
            <a:ext cx="73080" cy="142920"/>
          </a:xfrm>
          <a:custGeom>
            <a:avLst/>
            <a:gdLst/>
            <a:ahLst/>
            <a:rect l="l" t="t" r="r" b="b"/>
            <a:pathLst>
              <a:path w="199" h="398">
                <a:moveTo>
                  <a:pt x="3845" y="5482"/>
                </a:moveTo>
                <a:cubicBezTo>
                  <a:pt x="3762" y="5591"/>
                  <a:pt x="3738" y="5681"/>
                  <a:pt x="3746" y="5829"/>
                </a:cubicBezTo>
                <a:cubicBezTo>
                  <a:pt x="3754" y="5846"/>
                  <a:pt x="3762" y="5862"/>
                  <a:pt x="3770" y="5879"/>
                </a:cubicBezTo>
                <a:cubicBezTo>
                  <a:pt x="3919" y="5780"/>
                  <a:pt x="3977" y="5706"/>
                  <a:pt x="3870" y="5556"/>
                </a:cubicBezTo>
                <a:cubicBezTo>
                  <a:pt x="3862" y="5548"/>
                  <a:pt x="3853" y="5539"/>
                  <a:pt x="3845" y="55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12960" y="2000160"/>
            <a:ext cx="357120" cy="258840"/>
          </a:xfrm>
          <a:custGeom>
            <a:avLst/>
            <a:gdLst/>
            <a:ahLst/>
            <a:rect l="l" t="t" r="r" b="b"/>
            <a:pathLst>
              <a:path w="994" h="721">
                <a:moveTo>
                  <a:pt x="5035" y="5581"/>
                </a:moveTo>
                <a:cubicBezTo>
                  <a:pt x="5035" y="5456"/>
                  <a:pt x="5046" y="5780"/>
                  <a:pt x="5060" y="5904"/>
                </a:cubicBezTo>
                <a:cubicBezTo>
                  <a:pt x="5079" y="6077"/>
                  <a:pt x="5079" y="6097"/>
                  <a:pt x="5060" y="6251"/>
                </a:cubicBezTo>
                <a:cubicBezTo>
                  <a:pt x="5080" y="6133"/>
                  <a:pt x="5108" y="6005"/>
                  <a:pt x="5209" y="5928"/>
                </a:cubicBezTo>
                <a:cubicBezTo>
                  <a:pt x="5363" y="5809"/>
                  <a:pt x="5401" y="6121"/>
                  <a:pt x="5407" y="6201"/>
                </a:cubicBezTo>
                <a:cubicBezTo>
                  <a:pt x="5407" y="6243"/>
                  <a:pt x="5407" y="6251"/>
                  <a:pt x="5407" y="6276"/>
                </a:cubicBezTo>
              </a:path>
              <a:path w="994" h="721">
                <a:moveTo>
                  <a:pt x="5631" y="6003"/>
                </a:moveTo>
                <a:cubicBezTo>
                  <a:pt x="5722" y="5950"/>
                  <a:pt x="5799" y="5953"/>
                  <a:pt x="5904" y="5953"/>
                </a:cubicBezTo>
              </a:path>
              <a:path w="994" h="721">
                <a:moveTo>
                  <a:pt x="5655" y="6127"/>
                </a:moveTo>
                <a:cubicBezTo>
                  <a:pt x="5782" y="6082"/>
                  <a:pt x="5896" y="6054"/>
                  <a:pt x="6028" y="60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11280" y="1946160"/>
            <a:ext cx="133560" cy="295560"/>
          </a:xfrm>
          <a:custGeom>
            <a:avLst/>
            <a:gdLst/>
            <a:ahLst/>
            <a:rect l="l" t="t" r="r" b="b"/>
            <a:pathLst>
              <a:path w="373" h="820">
                <a:moveTo>
                  <a:pt x="7020" y="5655"/>
                </a:moveTo>
                <a:cubicBezTo>
                  <a:pt x="7066" y="5566"/>
                  <a:pt x="7036" y="5558"/>
                  <a:pt x="6995" y="5457"/>
                </a:cubicBezTo>
                <a:cubicBezTo>
                  <a:pt x="6814" y="5425"/>
                  <a:pt x="6613" y="5530"/>
                  <a:pt x="6722" y="5779"/>
                </a:cubicBezTo>
                <a:cubicBezTo>
                  <a:pt x="6747" y="5796"/>
                  <a:pt x="6771" y="5812"/>
                  <a:pt x="6796" y="5829"/>
                </a:cubicBezTo>
                <a:cubicBezTo>
                  <a:pt x="6924" y="5747"/>
                  <a:pt x="6987" y="5684"/>
                  <a:pt x="7069" y="5556"/>
                </a:cubicBezTo>
                <a:cubicBezTo>
                  <a:pt x="7069" y="5749"/>
                  <a:pt x="7056" y="5936"/>
                  <a:pt x="7045" y="6127"/>
                </a:cubicBezTo>
                <a:cubicBezTo>
                  <a:pt x="7045" y="6160"/>
                  <a:pt x="7045" y="6193"/>
                  <a:pt x="7045" y="62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46640" y="1339920"/>
            <a:ext cx="741240" cy="776160"/>
          </a:xfrm>
          <a:custGeom>
            <a:avLst/>
            <a:gdLst/>
            <a:ahLst/>
            <a:rect l="l" t="t" r="r" b="b"/>
            <a:pathLst>
              <a:path w="2059" h="2159">
                <a:moveTo>
                  <a:pt x="10616" y="3820"/>
                </a:moveTo>
                <a:cubicBezTo>
                  <a:pt x="10616" y="4012"/>
                  <a:pt x="10619" y="4181"/>
                  <a:pt x="10666" y="4366"/>
                </a:cubicBezTo>
              </a:path>
              <a:path w="2059" h="2159">
                <a:moveTo>
                  <a:pt x="10840" y="3746"/>
                </a:moveTo>
                <a:cubicBezTo>
                  <a:pt x="10992" y="3727"/>
                  <a:pt x="11059" y="3707"/>
                  <a:pt x="11187" y="3770"/>
                </a:cubicBezTo>
                <a:cubicBezTo>
                  <a:pt x="11124" y="3969"/>
                  <a:pt x="11038" y="4062"/>
                  <a:pt x="10914" y="4217"/>
                </a:cubicBezTo>
                <a:cubicBezTo>
                  <a:pt x="11066" y="4217"/>
                  <a:pt x="11211" y="4201"/>
                  <a:pt x="11361" y="4192"/>
                </a:cubicBezTo>
              </a:path>
              <a:path w="2059" h="2159">
                <a:moveTo>
                  <a:pt x="10319" y="4440"/>
                </a:moveTo>
                <a:cubicBezTo>
                  <a:pt x="10326" y="4567"/>
                  <a:pt x="10351" y="4687"/>
                  <a:pt x="10368" y="4812"/>
                </a:cubicBezTo>
              </a:path>
              <a:path w="2059" h="2159">
                <a:moveTo>
                  <a:pt x="10145" y="4589"/>
                </a:moveTo>
                <a:cubicBezTo>
                  <a:pt x="10339" y="4589"/>
                  <a:pt x="10523" y="4582"/>
                  <a:pt x="10716" y="4564"/>
                </a:cubicBezTo>
              </a:path>
              <a:path w="2059" h="2159">
                <a:moveTo>
                  <a:pt x="11261" y="4564"/>
                </a:moveTo>
                <a:cubicBezTo>
                  <a:pt x="11191" y="4481"/>
                  <a:pt x="11035" y="4468"/>
                  <a:pt x="10988" y="4614"/>
                </a:cubicBezTo>
                <a:cubicBezTo>
                  <a:pt x="10913" y="4849"/>
                  <a:pt x="11191" y="4862"/>
                  <a:pt x="11286" y="4713"/>
                </a:cubicBezTo>
                <a:cubicBezTo>
                  <a:pt x="11294" y="4680"/>
                  <a:pt x="11303" y="4647"/>
                  <a:pt x="11311" y="4614"/>
                </a:cubicBezTo>
                <a:cubicBezTo>
                  <a:pt x="11311" y="4738"/>
                  <a:pt x="11332" y="4861"/>
                  <a:pt x="11336" y="4986"/>
                </a:cubicBezTo>
                <a:cubicBezTo>
                  <a:pt x="11336" y="5027"/>
                  <a:pt x="11344" y="5043"/>
                  <a:pt x="11311" y="5035"/>
                </a:cubicBezTo>
              </a:path>
              <a:path w="2059" h="2159">
                <a:moveTo>
                  <a:pt x="10443" y="5085"/>
                </a:moveTo>
                <a:cubicBezTo>
                  <a:pt x="10819" y="5040"/>
                  <a:pt x="11181" y="4979"/>
                  <a:pt x="11559" y="5035"/>
                </a:cubicBezTo>
                <a:cubicBezTo>
                  <a:pt x="11584" y="5043"/>
                  <a:pt x="11608" y="5052"/>
                  <a:pt x="11633" y="5060"/>
                </a:cubicBezTo>
              </a:path>
              <a:path w="2059" h="2159">
                <a:moveTo>
                  <a:pt x="10716" y="5383"/>
                </a:moveTo>
                <a:cubicBezTo>
                  <a:pt x="10926" y="5312"/>
                  <a:pt x="10985" y="5340"/>
                  <a:pt x="11137" y="5482"/>
                </a:cubicBezTo>
                <a:cubicBezTo>
                  <a:pt x="11005" y="5681"/>
                  <a:pt x="10914" y="5692"/>
                  <a:pt x="10666" y="5705"/>
                </a:cubicBezTo>
                <a:cubicBezTo>
                  <a:pt x="10740" y="5610"/>
                  <a:pt x="10878" y="5488"/>
                  <a:pt x="11013" y="5581"/>
                </a:cubicBezTo>
                <a:cubicBezTo>
                  <a:pt x="11076" y="5624"/>
                  <a:pt x="11114" y="5740"/>
                  <a:pt x="11162" y="5779"/>
                </a:cubicBezTo>
              </a:path>
              <a:path w="2059" h="2159">
                <a:moveTo>
                  <a:pt x="11509" y="5358"/>
                </a:moveTo>
                <a:cubicBezTo>
                  <a:pt x="11548" y="5531"/>
                  <a:pt x="11574" y="5711"/>
                  <a:pt x="11633" y="5879"/>
                </a:cubicBezTo>
                <a:cubicBezTo>
                  <a:pt x="11633" y="5871"/>
                  <a:pt x="11633" y="5862"/>
                  <a:pt x="11633" y="5854"/>
                </a:cubicBezTo>
              </a:path>
              <a:path w="2059" h="2159">
                <a:moveTo>
                  <a:pt x="9575" y="5407"/>
                </a:moveTo>
                <a:cubicBezTo>
                  <a:pt x="9605" y="5475"/>
                  <a:pt x="9633" y="5516"/>
                  <a:pt x="9649" y="5581"/>
                </a:cubicBezTo>
                <a:cubicBezTo>
                  <a:pt x="9771" y="5459"/>
                  <a:pt x="9930" y="5214"/>
                  <a:pt x="10096" y="5159"/>
                </a:cubicBezTo>
                <a:cubicBezTo>
                  <a:pt x="10129" y="5167"/>
                  <a:pt x="10162" y="5176"/>
                  <a:pt x="10195" y="51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17840" y="2581200"/>
            <a:ext cx="2278080" cy="793800"/>
          </a:xfrm>
          <a:custGeom>
            <a:avLst/>
            <a:gdLst/>
            <a:ahLst/>
            <a:rect l="l" t="t" r="r" b="b"/>
            <a:pathLst>
              <a:path w="6326" h="2208">
                <a:moveTo>
                  <a:pt x="6995" y="7987"/>
                </a:moveTo>
                <a:cubicBezTo>
                  <a:pt x="6995" y="8139"/>
                  <a:pt x="6993" y="8266"/>
                  <a:pt x="7045" y="8409"/>
                </a:cubicBezTo>
              </a:path>
              <a:path w="6326" h="2208">
                <a:moveTo>
                  <a:pt x="7441" y="7987"/>
                </a:moveTo>
                <a:cubicBezTo>
                  <a:pt x="7567" y="7966"/>
                  <a:pt x="7680" y="7920"/>
                  <a:pt x="7813" y="7938"/>
                </a:cubicBezTo>
                <a:cubicBezTo>
                  <a:pt x="7913" y="7952"/>
                  <a:pt x="7780" y="8074"/>
                  <a:pt x="7764" y="8086"/>
                </a:cubicBezTo>
                <a:cubicBezTo>
                  <a:pt x="7825" y="8132"/>
                  <a:pt x="7911" y="8125"/>
                  <a:pt x="7987" y="8161"/>
                </a:cubicBezTo>
                <a:cubicBezTo>
                  <a:pt x="7956" y="8361"/>
                  <a:pt x="7857" y="8451"/>
                  <a:pt x="7640" y="8458"/>
                </a:cubicBezTo>
                <a:cubicBezTo>
                  <a:pt x="7582" y="8450"/>
                  <a:pt x="7524" y="8442"/>
                  <a:pt x="7466" y="8434"/>
                </a:cubicBezTo>
              </a:path>
              <a:path w="6326" h="2208">
                <a:moveTo>
                  <a:pt x="8086" y="8830"/>
                </a:moveTo>
                <a:cubicBezTo>
                  <a:pt x="8166" y="8973"/>
                  <a:pt x="8210" y="9112"/>
                  <a:pt x="8235" y="9277"/>
                </a:cubicBezTo>
                <a:cubicBezTo>
                  <a:pt x="8235" y="9294"/>
                  <a:pt x="8235" y="9310"/>
                  <a:pt x="8235" y="9327"/>
                </a:cubicBezTo>
              </a:path>
              <a:path w="6326" h="2208">
                <a:moveTo>
                  <a:pt x="11633" y="7342"/>
                </a:moveTo>
                <a:cubicBezTo>
                  <a:pt x="11706" y="7233"/>
                  <a:pt x="11927" y="7105"/>
                  <a:pt x="12030" y="7293"/>
                </a:cubicBezTo>
                <a:cubicBezTo>
                  <a:pt x="12155" y="7522"/>
                  <a:pt x="11745" y="7858"/>
                  <a:pt x="11534" y="7764"/>
                </a:cubicBezTo>
                <a:cubicBezTo>
                  <a:pt x="11518" y="7731"/>
                  <a:pt x="11501" y="7698"/>
                  <a:pt x="11485" y="7665"/>
                </a:cubicBezTo>
                <a:cubicBezTo>
                  <a:pt x="11675" y="7527"/>
                  <a:pt x="11768" y="7567"/>
                  <a:pt x="11956" y="7714"/>
                </a:cubicBezTo>
                <a:cubicBezTo>
                  <a:pt x="11994" y="7753"/>
                  <a:pt x="12011" y="7755"/>
                  <a:pt x="12005" y="7789"/>
                </a:cubicBezTo>
              </a:path>
              <a:path w="6326" h="2208">
                <a:moveTo>
                  <a:pt x="12626" y="7169"/>
                </a:moveTo>
                <a:cubicBezTo>
                  <a:pt x="12660" y="7346"/>
                  <a:pt x="12700" y="7508"/>
                  <a:pt x="12700" y="7689"/>
                </a:cubicBezTo>
                <a:cubicBezTo>
                  <a:pt x="12700" y="7697"/>
                  <a:pt x="12700" y="7706"/>
                  <a:pt x="12700" y="7714"/>
                </a:cubicBezTo>
              </a:path>
              <a:path w="6326" h="2208">
                <a:moveTo>
                  <a:pt x="10914" y="8037"/>
                </a:moveTo>
                <a:cubicBezTo>
                  <a:pt x="10914" y="7945"/>
                  <a:pt x="10937" y="8168"/>
                  <a:pt x="10939" y="8260"/>
                </a:cubicBezTo>
                <a:cubicBezTo>
                  <a:pt x="10941" y="8337"/>
                  <a:pt x="10958" y="8404"/>
                  <a:pt x="10914" y="8434"/>
                </a:cubicBezTo>
              </a:path>
              <a:path w="6326" h="2208">
                <a:moveTo>
                  <a:pt x="10716" y="8285"/>
                </a:moveTo>
                <a:cubicBezTo>
                  <a:pt x="10860" y="8246"/>
                  <a:pt x="11035" y="8188"/>
                  <a:pt x="11187" y="8210"/>
                </a:cubicBezTo>
                <a:cubicBezTo>
                  <a:pt x="11242" y="8238"/>
                  <a:pt x="11265" y="8246"/>
                  <a:pt x="11311" y="8235"/>
                </a:cubicBezTo>
              </a:path>
              <a:path w="6326" h="2208">
                <a:moveTo>
                  <a:pt x="11559" y="8161"/>
                </a:moveTo>
                <a:cubicBezTo>
                  <a:pt x="11588" y="8261"/>
                  <a:pt x="11602" y="8386"/>
                  <a:pt x="11633" y="8483"/>
                </a:cubicBezTo>
                <a:cubicBezTo>
                  <a:pt x="11641" y="8491"/>
                  <a:pt x="11650" y="8500"/>
                  <a:pt x="11658" y="8508"/>
                </a:cubicBezTo>
              </a:path>
              <a:path w="6326" h="2208">
                <a:moveTo>
                  <a:pt x="12303" y="8111"/>
                </a:moveTo>
                <a:cubicBezTo>
                  <a:pt x="12362" y="8090"/>
                  <a:pt x="12703" y="7940"/>
                  <a:pt x="12675" y="8136"/>
                </a:cubicBezTo>
                <a:cubicBezTo>
                  <a:pt x="12666" y="8198"/>
                  <a:pt x="12576" y="8206"/>
                  <a:pt x="12576" y="8210"/>
                </a:cubicBezTo>
                <a:cubicBezTo>
                  <a:pt x="12667" y="8210"/>
                  <a:pt x="12864" y="8205"/>
                  <a:pt x="12849" y="8359"/>
                </a:cubicBezTo>
                <a:cubicBezTo>
                  <a:pt x="12829" y="8571"/>
                  <a:pt x="12545" y="8516"/>
                  <a:pt x="12427" y="8483"/>
                </a:cubicBezTo>
              </a:path>
              <a:path w="6326" h="2208">
                <a:moveTo>
                  <a:pt x="11038" y="8781"/>
                </a:moveTo>
                <a:cubicBezTo>
                  <a:pt x="11666" y="8682"/>
                  <a:pt x="12311" y="8628"/>
                  <a:pt x="12948" y="8632"/>
                </a:cubicBezTo>
                <a:cubicBezTo>
                  <a:pt x="13171" y="8651"/>
                  <a:pt x="13196" y="8659"/>
                  <a:pt x="13320" y="8657"/>
                </a:cubicBezTo>
              </a:path>
              <a:path w="6326" h="2208">
                <a:moveTo>
                  <a:pt x="11658" y="8979"/>
                </a:moveTo>
                <a:cubicBezTo>
                  <a:pt x="11700" y="8964"/>
                  <a:pt x="11972" y="8861"/>
                  <a:pt x="11981" y="8930"/>
                </a:cubicBezTo>
                <a:cubicBezTo>
                  <a:pt x="12000" y="9069"/>
                  <a:pt x="11871" y="9092"/>
                  <a:pt x="11782" y="9128"/>
                </a:cubicBezTo>
                <a:cubicBezTo>
                  <a:pt x="11782" y="9173"/>
                  <a:pt x="11967" y="9070"/>
                  <a:pt x="12055" y="9178"/>
                </a:cubicBezTo>
                <a:cubicBezTo>
                  <a:pt x="12174" y="9325"/>
                  <a:pt x="11767" y="9381"/>
                  <a:pt x="11708" y="9376"/>
                </a:cubicBezTo>
                <a:cubicBezTo>
                  <a:pt x="11608" y="9343"/>
                  <a:pt x="11608" y="9326"/>
                  <a:pt x="11782" y="9302"/>
                </a:cubicBezTo>
              </a:path>
              <a:path w="6326" h="2208">
                <a:moveTo>
                  <a:pt x="12725" y="8954"/>
                </a:moveTo>
                <a:cubicBezTo>
                  <a:pt x="12813" y="9021"/>
                  <a:pt x="12744" y="9104"/>
                  <a:pt x="12898" y="9128"/>
                </a:cubicBezTo>
                <a:cubicBezTo>
                  <a:pt x="13068" y="9155"/>
                  <a:pt x="13111" y="9105"/>
                  <a:pt x="13221" y="9004"/>
                </a:cubicBezTo>
              </a:path>
              <a:path w="6326" h="2208">
                <a:moveTo>
                  <a:pt x="13122" y="8806"/>
                </a:moveTo>
                <a:cubicBezTo>
                  <a:pt x="13102" y="8996"/>
                  <a:pt x="13284" y="9413"/>
                  <a:pt x="13097" y="9376"/>
                </a:cubicBezTo>
                <a:cubicBezTo>
                  <a:pt x="13072" y="9351"/>
                  <a:pt x="13047" y="9327"/>
                  <a:pt x="13022" y="9302"/>
                </a:cubicBezTo>
              </a:path>
              <a:path w="6326" h="2208">
                <a:moveTo>
                  <a:pt x="8855" y="8830"/>
                </a:moveTo>
                <a:cubicBezTo>
                  <a:pt x="8855" y="8882"/>
                  <a:pt x="8857" y="8900"/>
                  <a:pt x="8905" y="8905"/>
                </a:cubicBezTo>
                <a:cubicBezTo>
                  <a:pt x="8933" y="8989"/>
                  <a:pt x="9251" y="8559"/>
                  <a:pt x="9252" y="8558"/>
                </a:cubicBezTo>
                <a:cubicBezTo>
                  <a:pt x="9402" y="8451"/>
                  <a:pt x="9432" y="8404"/>
                  <a:pt x="9550" y="84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06800" y="3732120"/>
            <a:ext cx="1600200" cy="876240"/>
          </a:xfrm>
          <a:custGeom>
            <a:avLst/>
            <a:gdLst/>
            <a:ahLst/>
            <a:rect l="l" t="t" r="r" b="b"/>
            <a:pathLst>
              <a:path w="4441" h="2432">
                <a:moveTo>
                  <a:pt x="12402" y="10666"/>
                </a:moveTo>
                <a:cubicBezTo>
                  <a:pt x="12342" y="10666"/>
                  <a:pt x="12523" y="10580"/>
                  <a:pt x="12551" y="10592"/>
                </a:cubicBezTo>
                <a:cubicBezTo>
                  <a:pt x="12837" y="10719"/>
                  <a:pt x="12536" y="11116"/>
                  <a:pt x="12328" y="11137"/>
                </a:cubicBezTo>
                <a:cubicBezTo>
                  <a:pt x="12303" y="11121"/>
                  <a:pt x="12279" y="11104"/>
                  <a:pt x="12254" y="11088"/>
                </a:cubicBezTo>
                <a:cubicBezTo>
                  <a:pt x="12351" y="10948"/>
                  <a:pt x="12465" y="10984"/>
                  <a:pt x="12626" y="11063"/>
                </a:cubicBezTo>
                <a:cubicBezTo>
                  <a:pt x="12648" y="11086"/>
                  <a:pt x="12653" y="11094"/>
                  <a:pt x="12675" y="11088"/>
                </a:cubicBezTo>
              </a:path>
              <a:path w="4441" h="2432">
                <a:moveTo>
                  <a:pt x="13072" y="10368"/>
                </a:moveTo>
                <a:cubicBezTo>
                  <a:pt x="13072" y="10593"/>
                  <a:pt x="13098" y="10870"/>
                  <a:pt x="13022" y="11088"/>
                </a:cubicBezTo>
                <a:cubicBezTo>
                  <a:pt x="13006" y="11104"/>
                  <a:pt x="12989" y="11121"/>
                  <a:pt x="12973" y="11137"/>
                </a:cubicBezTo>
              </a:path>
              <a:path w="4441" h="2432">
                <a:moveTo>
                  <a:pt x="11683" y="11559"/>
                </a:moveTo>
                <a:cubicBezTo>
                  <a:pt x="11683" y="11684"/>
                  <a:pt x="11737" y="11810"/>
                  <a:pt x="11733" y="11931"/>
                </a:cubicBezTo>
                <a:cubicBezTo>
                  <a:pt x="11725" y="11948"/>
                  <a:pt x="11716" y="11964"/>
                  <a:pt x="11708" y="11981"/>
                </a:cubicBezTo>
              </a:path>
              <a:path w="4441" h="2432">
                <a:moveTo>
                  <a:pt x="8632" y="12551"/>
                </a:moveTo>
                <a:cubicBezTo>
                  <a:pt x="8732" y="12618"/>
                  <a:pt x="8775" y="12702"/>
                  <a:pt x="8855" y="12799"/>
                </a:cubicBezTo>
                <a:cubicBezTo>
                  <a:pt x="9087" y="12527"/>
                  <a:pt x="9320" y="12280"/>
                  <a:pt x="9575" y="120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35040" y="2741760"/>
            <a:ext cx="2982960" cy="588960"/>
          </a:xfrm>
          <a:custGeom>
            <a:avLst/>
            <a:gdLst/>
            <a:ahLst/>
            <a:rect l="l" t="t" r="r" b="b"/>
            <a:pathLst>
              <a:path w="8286" h="1638">
                <a:moveTo>
                  <a:pt x="5159" y="8359"/>
                </a:moveTo>
                <a:cubicBezTo>
                  <a:pt x="5184" y="8409"/>
                  <a:pt x="5192" y="8426"/>
                  <a:pt x="5234" y="8384"/>
                </a:cubicBezTo>
              </a:path>
              <a:path w="8286" h="1638">
                <a:moveTo>
                  <a:pt x="6276" y="8210"/>
                </a:moveTo>
                <a:cubicBezTo>
                  <a:pt x="6394" y="8198"/>
                  <a:pt x="6506" y="8175"/>
                  <a:pt x="6623" y="8161"/>
                </a:cubicBezTo>
              </a:path>
              <a:path w="8286" h="1638">
                <a:moveTo>
                  <a:pt x="7169" y="8285"/>
                </a:moveTo>
                <a:cubicBezTo>
                  <a:pt x="7169" y="8334"/>
                  <a:pt x="7169" y="8350"/>
                  <a:pt x="7218" y="8334"/>
                </a:cubicBezTo>
              </a:path>
              <a:path w="8286" h="1638">
                <a:moveTo>
                  <a:pt x="4266" y="8682"/>
                </a:moveTo>
                <a:cubicBezTo>
                  <a:pt x="4274" y="8682"/>
                  <a:pt x="4283" y="8682"/>
                  <a:pt x="4291" y="8682"/>
                </a:cubicBezTo>
              </a:path>
              <a:path w="8286" h="1638">
                <a:moveTo>
                  <a:pt x="12129" y="7615"/>
                </a:moveTo>
                <a:cubicBezTo>
                  <a:pt x="12154" y="7665"/>
                  <a:pt x="12162" y="7682"/>
                  <a:pt x="12204" y="7640"/>
                </a:cubicBezTo>
              </a:path>
              <a:path w="8286" h="1638">
                <a:moveTo>
                  <a:pt x="11931" y="8359"/>
                </a:moveTo>
                <a:cubicBezTo>
                  <a:pt x="11952" y="8462"/>
                  <a:pt x="11937" y="8422"/>
                  <a:pt x="12030" y="8384"/>
                </a:cubicBezTo>
              </a:path>
              <a:path w="8286" h="1638">
                <a:moveTo>
                  <a:pt x="12502" y="9178"/>
                </a:moveTo>
                <a:cubicBezTo>
                  <a:pt x="12531" y="9208"/>
                  <a:pt x="12542" y="9222"/>
                  <a:pt x="12551" y="9252"/>
                </a:cubicBezTo>
              </a:path>
              <a:path w="8286" h="1638">
                <a:moveTo>
                  <a:pt x="12551" y="9252"/>
                </a:moveTo>
                <a:lnTo>
                  <a:pt x="12551" y="925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00160" y="3303720"/>
            <a:ext cx="2697120" cy="1331640"/>
          </a:xfrm>
          <a:custGeom>
            <a:avLst/>
            <a:gdLst/>
            <a:ahLst/>
            <a:rect l="l" t="t" r="r" b="b"/>
            <a:pathLst>
              <a:path w="7492" h="3697">
                <a:moveTo>
                  <a:pt x="6350" y="9178"/>
                </a:moveTo>
                <a:lnTo>
                  <a:pt x="6350" y="9178"/>
                </a:lnTo>
              </a:path>
              <a:path w="7492" h="3697">
                <a:moveTo>
                  <a:pt x="7714" y="9178"/>
                </a:moveTo>
                <a:cubicBezTo>
                  <a:pt x="7763" y="9299"/>
                  <a:pt x="7732" y="9288"/>
                  <a:pt x="7838" y="9203"/>
                </a:cubicBezTo>
              </a:path>
              <a:path w="7492" h="3697">
                <a:moveTo>
                  <a:pt x="5556" y="12874"/>
                </a:moveTo>
                <a:cubicBezTo>
                  <a:pt x="5657" y="12811"/>
                  <a:pt x="5663" y="12791"/>
                  <a:pt x="5779" y="12774"/>
                </a:cubicBezTo>
              </a:path>
              <a:path w="7492" h="3697">
                <a:moveTo>
                  <a:pt x="12774" y="10616"/>
                </a:moveTo>
                <a:cubicBezTo>
                  <a:pt x="12778" y="10676"/>
                  <a:pt x="12801" y="10990"/>
                  <a:pt x="12948" y="10889"/>
                </a:cubicBezTo>
                <a:cubicBezTo>
                  <a:pt x="12981" y="10848"/>
                  <a:pt x="13014" y="10806"/>
                  <a:pt x="13047" y="10765"/>
                </a:cubicBezTo>
              </a:path>
              <a:path w="7492" h="3697">
                <a:moveTo>
                  <a:pt x="11633" y="11807"/>
                </a:moveTo>
                <a:cubicBezTo>
                  <a:pt x="11805" y="11766"/>
                  <a:pt x="11953" y="11740"/>
                  <a:pt x="12129" y="11733"/>
                </a:cubicBezTo>
              </a:path>
              <a:path w="7492" h="3697">
                <a:moveTo>
                  <a:pt x="12129" y="11733"/>
                </a:moveTo>
                <a:lnTo>
                  <a:pt x="12129" y="1173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55840" y="2884320"/>
            <a:ext cx="1322280" cy="1847880"/>
          </a:xfrm>
          <a:custGeom>
            <a:avLst/>
            <a:gdLst/>
            <a:ahLst/>
            <a:rect l="l" t="t" r="r" b="b"/>
            <a:pathLst>
              <a:path w="3672" h="5135">
                <a:moveTo>
                  <a:pt x="4142" y="8359"/>
                </a:moveTo>
                <a:cubicBezTo>
                  <a:pt x="4257" y="8306"/>
                  <a:pt x="4362" y="8285"/>
                  <a:pt x="4490" y="8260"/>
                </a:cubicBezTo>
              </a:path>
              <a:path w="3672" h="5135">
                <a:moveTo>
                  <a:pt x="4738" y="8062"/>
                </a:moveTo>
                <a:cubicBezTo>
                  <a:pt x="4756" y="8192"/>
                  <a:pt x="4761" y="8449"/>
                  <a:pt x="4812" y="8533"/>
                </a:cubicBezTo>
              </a:path>
              <a:path w="3672" h="5135">
                <a:moveTo>
                  <a:pt x="5383" y="8086"/>
                </a:moveTo>
                <a:cubicBezTo>
                  <a:pt x="5434" y="8068"/>
                  <a:pt x="5727" y="7930"/>
                  <a:pt x="5755" y="8037"/>
                </a:cubicBezTo>
                <a:cubicBezTo>
                  <a:pt x="5730" y="8137"/>
                  <a:pt x="5721" y="8171"/>
                  <a:pt x="5655" y="8210"/>
                </a:cubicBezTo>
                <a:cubicBezTo>
                  <a:pt x="5647" y="8210"/>
                  <a:pt x="5639" y="8210"/>
                  <a:pt x="5631" y="8210"/>
                </a:cubicBezTo>
                <a:cubicBezTo>
                  <a:pt x="5733" y="8196"/>
                  <a:pt x="5888" y="8188"/>
                  <a:pt x="5829" y="8359"/>
                </a:cubicBezTo>
                <a:cubicBezTo>
                  <a:pt x="5766" y="8543"/>
                  <a:pt x="5663" y="8504"/>
                  <a:pt x="5531" y="8483"/>
                </a:cubicBezTo>
              </a:path>
              <a:path w="3672" h="5135">
                <a:moveTo>
                  <a:pt x="4266" y="8905"/>
                </a:moveTo>
                <a:cubicBezTo>
                  <a:pt x="4398" y="8806"/>
                  <a:pt x="4435" y="9167"/>
                  <a:pt x="4440" y="9203"/>
                </a:cubicBezTo>
                <a:cubicBezTo>
                  <a:pt x="4479" y="9508"/>
                  <a:pt x="4369" y="9540"/>
                  <a:pt x="4118" y="9475"/>
                </a:cubicBezTo>
                <a:cubicBezTo>
                  <a:pt x="3975" y="9438"/>
                  <a:pt x="4060" y="9341"/>
                  <a:pt x="4093" y="9227"/>
                </a:cubicBezTo>
              </a:path>
              <a:path w="3672" h="5135">
                <a:moveTo>
                  <a:pt x="6003" y="9153"/>
                </a:moveTo>
                <a:cubicBezTo>
                  <a:pt x="6082" y="9153"/>
                  <a:pt x="6466" y="9153"/>
                  <a:pt x="6375" y="9153"/>
                </a:cubicBezTo>
              </a:path>
              <a:path w="3672" h="5135">
                <a:moveTo>
                  <a:pt x="6028" y="9277"/>
                </a:moveTo>
                <a:cubicBezTo>
                  <a:pt x="6140" y="9249"/>
                  <a:pt x="6242" y="9217"/>
                  <a:pt x="6350" y="9178"/>
                </a:cubicBezTo>
              </a:path>
              <a:path w="3672" h="5135">
                <a:moveTo>
                  <a:pt x="5680" y="8855"/>
                </a:moveTo>
                <a:cubicBezTo>
                  <a:pt x="5676" y="8843"/>
                  <a:pt x="5653" y="8791"/>
                  <a:pt x="5631" y="8806"/>
                </a:cubicBezTo>
                <a:cubicBezTo>
                  <a:pt x="5586" y="8850"/>
                  <a:pt x="5569" y="8860"/>
                  <a:pt x="5581" y="8905"/>
                </a:cubicBezTo>
                <a:cubicBezTo>
                  <a:pt x="5650" y="8920"/>
                  <a:pt x="5819" y="8873"/>
                  <a:pt x="5730" y="8756"/>
                </a:cubicBezTo>
                <a:cubicBezTo>
                  <a:pt x="5688" y="8756"/>
                  <a:pt x="5680" y="8756"/>
                  <a:pt x="5655" y="8756"/>
                </a:cubicBezTo>
              </a:path>
              <a:path w="3672" h="5135">
                <a:moveTo>
                  <a:pt x="7094" y="8954"/>
                </a:moveTo>
                <a:cubicBezTo>
                  <a:pt x="7230" y="8877"/>
                  <a:pt x="7264" y="8872"/>
                  <a:pt x="7417" y="8880"/>
                </a:cubicBezTo>
                <a:cubicBezTo>
                  <a:pt x="7477" y="9123"/>
                  <a:pt x="7415" y="9234"/>
                  <a:pt x="7144" y="9302"/>
                </a:cubicBezTo>
                <a:cubicBezTo>
                  <a:pt x="7111" y="9302"/>
                  <a:pt x="7078" y="9302"/>
                  <a:pt x="7045" y="9302"/>
                </a:cubicBezTo>
                <a:cubicBezTo>
                  <a:pt x="7045" y="9156"/>
                  <a:pt x="7146" y="9079"/>
                  <a:pt x="7317" y="9153"/>
                </a:cubicBezTo>
                <a:cubicBezTo>
                  <a:pt x="7429" y="9201"/>
                  <a:pt x="7442" y="9277"/>
                  <a:pt x="7516" y="9302"/>
                </a:cubicBezTo>
              </a:path>
              <a:path w="3672" h="5135">
                <a:moveTo>
                  <a:pt x="4242" y="11609"/>
                </a:moveTo>
                <a:cubicBezTo>
                  <a:pt x="4369" y="11609"/>
                  <a:pt x="4489" y="11593"/>
                  <a:pt x="4614" y="11584"/>
                </a:cubicBezTo>
              </a:path>
              <a:path w="3672" h="5135">
                <a:moveTo>
                  <a:pt x="4862" y="11460"/>
                </a:moveTo>
                <a:cubicBezTo>
                  <a:pt x="4870" y="11609"/>
                  <a:pt x="4862" y="11771"/>
                  <a:pt x="4887" y="11906"/>
                </a:cubicBezTo>
              </a:path>
              <a:path w="3672" h="5135">
                <a:moveTo>
                  <a:pt x="5259" y="11460"/>
                </a:moveTo>
                <a:cubicBezTo>
                  <a:pt x="5117" y="11556"/>
                  <a:pt x="4870" y="11658"/>
                  <a:pt x="5110" y="11807"/>
                </a:cubicBezTo>
                <a:cubicBezTo>
                  <a:pt x="5151" y="11824"/>
                  <a:pt x="5193" y="11840"/>
                  <a:pt x="5234" y="11857"/>
                </a:cubicBezTo>
                <a:cubicBezTo>
                  <a:pt x="5254" y="11897"/>
                  <a:pt x="5263" y="11903"/>
                  <a:pt x="5259" y="11931"/>
                </a:cubicBezTo>
                <a:cubicBezTo>
                  <a:pt x="5092" y="11894"/>
                  <a:pt x="5121" y="11837"/>
                  <a:pt x="5209" y="11708"/>
                </a:cubicBezTo>
                <a:cubicBezTo>
                  <a:pt x="5265" y="11633"/>
                  <a:pt x="5269" y="11620"/>
                  <a:pt x="5308" y="11584"/>
                </a:cubicBezTo>
              </a:path>
              <a:path w="3672" h="5135">
                <a:moveTo>
                  <a:pt x="6350" y="11683"/>
                </a:moveTo>
                <a:cubicBezTo>
                  <a:pt x="6426" y="11637"/>
                  <a:pt x="6529" y="11637"/>
                  <a:pt x="6623" y="11633"/>
                </a:cubicBezTo>
                <a:cubicBezTo>
                  <a:pt x="6639" y="11633"/>
                  <a:pt x="6656" y="11633"/>
                  <a:pt x="6672" y="11633"/>
                </a:cubicBezTo>
              </a:path>
              <a:path w="3672" h="5135">
                <a:moveTo>
                  <a:pt x="6995" y="11311"/>
                </a:moveTo>
                <a:cubicBezTo>
                  <a:pt x="6978" y="11509"/>
                  <a:pt x="6995" y="11704"/>
                  <a:pt x="6995" y="11906"/>
                </a:cubicBezTo>
              </a:path>
              <a:path w="3672" h="5135">
                <a:moveTo>
                  <a:pt x="7317" y="11410"/>
                </a:moveTo>
                <a:cubicBezTo>
                  <a:pt x="7208" y="11497"/>
                  <a:pt x="7167" y="11510"/>
                  <a:pt x="7193" y="11609"/>
                </a:cubicBezTo>
                <a:cubicBezTo>
                  <a:pt x="7386" y="11701"/>
                  <a:pt x="7583" y="11710"/>
                  <a:pt x="7516" y="11931"/>
                </a:cubicBezTo>
                <a:cubicBezTo>
                  <a:pt x="7314" y="11822"/>
                  <a:pt x="7410" y="11646"/>
                  <a:pt x="7541" y="11460"/>
                </a:cubicBezTo>
                <a:cubicBezTo>
                  <a:pt x="7549" y="11460"/>
                  <a:pt x="7557" y="11460"/>
                  <a:pt x="7565" y="11460"/>
                </a:cubicBezTo>
              </a:path>
              <a:path w="3672" h="5135">
                <a:moveTo>
                  <a:pt x="4043" y="12576"/>
                </a:moveTo>
                <a:cubicBezTo>
                  <a:pt x="4050" y="12767"/>
                  <a:pt x="4068" y="12955"/>
                  <a:pt x="4068" y="13146"/>
                </a:cubicBezTo>
                <a:cubicBezTo>
                  <a:pt x="4039" y="12946"/>
                  <a:pt x="4019" y="12851"/>
                  <a:pt x="4142" y="12675"/>
                </a:cubicBezTo>
                <a:cubicBezTo>
                  <a:pt x="4175" y="12642"/>
                  <a:pt x="4209" y="12609"/>
                  <a:pt x="4242" y="12576"/>
                </a:cubicBezTo>
                <a:cubicBezTo>
                  <a:pt x="4434" y="12680"/>
                  <a:pt x="4475" y="12781"/>
                  <a:pt x="4490" y="12998"/>
                </a:cubicBezTo>
                <a:cubicBezTo>
                  <a:pt x="4490" y="13076"/>
                  <a:pt x="4505" y="13094"/>
                  <a:pt x="4465" y="13122"/>
                </a:cubicBezTo>
              </a:path>
              <a:path w="3672" h="5135">
                <a:moveTo>
                  <a:pt x="5407" y="12774"/>
                </a:moveTo>
                <a:cubicBezTo>
                  <a:pt x="5529" y="12740"/>
                  <a:pt x="5647" y="12693"/>
                  <a:pt x="5779" y="12675"/>
                </a:cubicBezTo>
                <a:cubicBezTo>
                  <a:pt x="5796" y="12675"/>
                  <a:pt x="5812" y="12675"/>
                  <a:pt x="5829" y="12675"/>
                </a:cubicBezTo>
              </a:path>
              <a:path w="3672" h="5135">
                <a:moveTo>
                  <a:pt x="5035" y="12452"/>
                </a:moveTo>
                <a:cubicBezTo>
                  <a:pt x="4936" y="12452"/>
                  <a:pt x="4950" y="12547"/>
                  <a:pt x="4936" y="12626"/>
                </a:cubicBezTo>
                <a:cubicBezTo>
                  <a:pt x="5026" y="12634"/>
                  <a:pt x="5216" y="12577"/>
                  <a:pt x="5159" y="12427"/>
                </a:cubicBezTo>
                <a:cubicBezTo>
                  <a:pt x="5116" y="12405"/>
                  <a:pt x="5105" y="12401"/>
                  <a:pt x="5085" y="12378"/>
                </a:cubicBezTo>
              </a:path>
              <a:path w="3672" h="5135">
                <a:moveTo>
                  <a:pt x="6821" y="10492"/>
                </a:moveTo>
                <a:cubicBezTo>
                  <a:pt x="6847" y="10571"/>
                  <a:pt x="6971" y="10761"/>
                  <a:pt x="7020" y="10864"/>
                </a:cubicBezTo>
                <a:cubicBezTo>
                  <a:pt x="7056" y="10938"/>
                  <a:pt x="7073" y="10942"/>
                  <a:pt x="7069" y="10988"/>
                </a:cubicBezTo>
              </a:path>
              <a:path w="3672" h="5135">
                <a:moveTo>
                  <a:pt x="6722" y="10021"/>
                </a:moveTo>
                <a:cubicBezTo>
                  <a:pt x="6790" y="10007"/>
                  <a:pt x="6854" y="9966"/>
                  <a:pt x="6921" y="9947"/>
                </a:cubicBezTo>
                <a:cubicBezTo>
                  <a:pt x="6908" y="10072"/>
                  <a:pt x="6890" y="10093"/>
                  <a:pt x="6796" y="10170"/>
                </a:cubicBezTo>
                <a:cubicBezTo>
                  <a:pt x="6858" y="10160"/>
                  <a:pt x="6968" y="10114"/>
                  <a:pt x="6921" y="10244"/>
                </a:cubicBezTo>
                <a:cubicBezTo>
                  <a:pt x="6875" y="10372"/>
                  <a:pt x="6797" y="10332"/>
                  <a:pt x="6697" y="10319"/>
                </a:cubicBezTo>
              </a:path>
              <a:path w="3672" h="5135">
                <a:moveTo>
                  <a:pt x="7169" y="10071"/>
                </a:moveTo>
                <a:cubicBezTo>
                  <a:pt x="7194" y="10156"/>
                  <a:pt x="7193" y="10227"/>
                  <a:pt x="7193" y="10319"/>
                </a:cubicBezTo>
              </a:path>
              <a:path w="3672" h="5135">
                <a:moveTo>
                  <a:pt x="7367" y="12378"/>
                </a:moveTo>
                <a:cubicBezTo>
                  <a:pt x="7367" y="12473"/>
                  <a:pt x="7358" y="12558"/>
                  <a:pt x="7342" y="12650"/>
                </a:cubicBezTo>
                <a:cubicBezTo>
                  <a:pt x="7342" y="12658"/>
                  <a:pt x="7342" y="12667"/>
                  <a:pt x="7342" y="12675"/>
                </a:cubicBezTo>
                <a:cubicBezTo>
                  <a:pt x="7490" y="12675"/>
                  <a:pt x="7578" y="12658"/>
                  <a:pt x="7714" y="12601"/>
                </a:cubicBezTo>
              </a:path>
              <a:path w="3672" h="5135">
                <a:moveTo>
                  <a:pt x="7665" y="12254"/>
                </a:moveTo>
                <a:cubicBezTo>
                  <a:pt x="7636" y="12476"/>
                  <a:pt x="7616" y="12700"/>
                  <a:pt x="7590" y="12923"/>
                </a:cubicBezTo>
                <a:cubicBezTo>
                  <a:pt x="7590" y="12965"/>
                  <a:pt x="7590" y="12990"/>
                  <a:pt x="7590" y="12948"/>
                </a:cubicBezTo>
              </a:path>
              <a:path w="3672" h="5135">
                <a:moveTo>
                  <a:pt x="6921" y="12551"/>
                </a:moveTo>
                <a:cubicBezTo>
                  <a:pt x="6899" y="12618"/>
                  <a:pt x="6894" y="12636"/>
                  <a:pt x="6871" y="12675"/>
                </a:cubicBezTo>
                <a:cubicBezTo>
                  <a:pt x="6886" y="12638"/>
                  <a:pt x="6978" y="12446"/>
                  <a:pt x="7045" y="12551"/>
                </a:cubicBezTo>
                <a:cubicBezTo>
                  <a:pt x="7167" y="12743"/>
                  <a:pt x="6966" y="13066"/>
                  <a:pt x="6772" y="13122"/>
                </a:cubicBezTo>
                <a:cubicBezTo>
                  <a:pt x="6747" y="13114"/>
                  <a:pt x="6722" y="13105"/>
                  <a:pt x="6697" y="13097"/>
                </a:cubicBezTo>
                <a:cubicBezTo>
                  <a:pt x="6697" y="12900"/>
                  <a:pt x="6808" y="12805"/>
                  <a:pt x="7020" y="12923"/>
                </a:cubicBezTo>
                <a:cubicBezTo>
                  <a:pt x="7051" y="12940"/>
                  <a:pt x="7130" y="13019"/>
                  <a:pt x="7144" y="130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33880" y="3660840"/>
            <a:ext cx="741240" cy="1108080"/>
          </a:xfrm>
          <a:custGeom>
            <a:avLst/>
            <a:gdLst/>
            <a:ahLst/>
            <a:rect l="l" t="t" r="r" b="b"/>
            <a:pathLst>
              <a:path w="2059" h="3077">
                <a:moveTo>
                  <a:pt x="12353" y="11584"/>
                </a:moveTo>
                <a:cubicBezTo>
                  <a:pt x="12342" y="11730"/>
                  <a:pt x="12315" y="11951"/>
                  <a:pt x="12378" y="12055"/>
                </a:cubicBezTo>
              </a:path>
              <a:path w="2059" h="3077">
                <a:moveTo>
                  <a:pt x="12799" y="11460"/>
                </a:moveTo>
                <a:cubicBezTo>
                  <a:pt x="12663" y="11528"/>
                  <a:pt x="12622" y="11541"/>
                  <a:pt x="12576" y="11633"/>
                </a:cubicBezTo>
                <a:cubicBezTo>
                  <a:pt x="12655" y="11774"/>
                  <a:pt x="12775" y="11857"/>
                  <a:pt x="12898" y="11981"/>
                </a:cubicBezTo>
                <a:cubicBezTo>
                  <a:pt x="12679" y="12048"/>
                  <a:pt x="12672" y="11883"/>
                  <a:pt x="12750" y="11683"/>
                </a:cubicBezTo>
                <a:cubicBezTo>
                  <a:pt x="12804" y="11593"/>
                  <a:pt x="12788" y="11552"/>
                  <a:pt x="12849" y="11559"/>
                </a:cubicBezTo>
              </a:path>
              <a:path w="2059" h="3077">
                <a:moveTo>
                  <a:pt x="11485" y="12353"/>
                </a:moveTo>
                <a:cubicBezTo>
                  <a:pt x="12074" y="12259"/>
                  <a:pt x="12671" y="12208"/>
                  <a:pt x="13271" y="12229"/>
                </a:cubicBezTo>
                <a:cubicBezTo>
                  <a:pt x="13457" y="12236"/>
                  <a:pt x="13507" y="12315"/>
                  <a:pt x="13543" y="12204"/>
                </a:cubicBezTo>
              </a:path>
              <a:path w="2059" h="3077">
                <a:moveTo>
                  <a:pt x="12998" y="12353"/>
                </a:moveTo>
                <a:cubicBezTo>
                  <a:pt x="13111" y="12337"/>
                  <a:pt x="13128" y="12340"/>
                  <a:pt x="13246" y="12353"/>
                </a:cubicBezTo>
                <a:cubicBezTo>
                  <a:pt x="13262" y="12604"/>
                  <a:pt x="13133" y="12700"/>
                  <a:pt x="12998" y="12898"/>
                </a:cubicBezTo>
                <a:cubicBezTo>
                  <a:pt x="12998" y="12906"/>
                  <a:pt x="12998" y="12915"/>
                  <a:pt x="12998" y="12923"/>
                </a:cubicBezTo>
                <a:cubicBezTo>
                  <a:pt x="13124" y="12888"/>
                  <a:pt x="13248" y="12834"/>
                  <a:pt x="13370" y="12799"/>
                </a:cubicBezTo>
              </a:path>
              <a:path w="2059" h="3077">
                <a:moveTo>
                  <a:pt x="12452" y="10170"/>
                </a:moveTo>
                <a:cubicBezTo>
                  <a:pt x="12452" y="10309"/>
                  <a:pt x="12468" y="10432"/>
                  <a:pt x="12452" y="10567"/>
                </a:cubicBezTo>
              </a:path>
              <a:path w="2059" h="3077">
                <a:moveTo>
                  <a:pt x="12254" y="12626"/>
                </a:moveTo>
                <a:cubicBezTo>
                  <a:pt x="12254" y="12717"/>
                  <a:pt x="12254" y="12807"/>
                  <a:pt x="12254" y="12898"/>
                </a:cubicBezTo>
                <a:cubicBezTo>
                  <a:pt x="12425" y="12854"/>
                  <a:pt x="12606" y="12821"/>
                  <a:pt x="12700" y="12700"/>
                </a:cubicBezTo>
              </a:path>
              <a:path w="2059" h="3077">
                <a:moveTo>
                  <a:pt x="12477" y="12402"/>
                </a:moveTo>
                <a:cubicBezTo>
                  <a:pt x="12477" y="12598"/>
                  <a:pt x="12530" y="13144"/>
                  <a:pt x="12452" y="132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1893960"/>
            <a:ext cx="1822320" cy="71280"/>
          </a:xfrm>
          <a:custGeom>
            <a:avLst/>
            <a:gdLst/>
            <a:ahLst/>
            <a:rect l="l" t="t" r="r" b="b"/>
            <a:pathLst>
              <a:path w="5061" h="199">
                <a:moveTo>
                  <a:pt x="2753" y="5457"/>
                </a:moveTo>
                <a:cubicBezTo>
                  <a:pt x="2998" y="5423"/>
                  <a:pt x="3248" y="5390"/>
                  <a:pt x="3497" y="5383"/>
                </a:cubicBezTo>
                <a:cubicBezTo>
                  <a:pt x="4151" y="5363"/>
                  <a:pt x="4803" y="5365"/>
                  <a:pt x="5457" y="5358"/>
                </a:cubicBezTo>
                <a:cubicBezTo>
                  <a:pt x="6010" y="5352"/>
                  <a:pt x="6567" y="5338"/>
                  <a:pt x="7119" y="5308"/>
                </a:cubicBezTo>
                <a:cubicBezTo>
                  <a:pt x="7352" y="5295"/>
                  <a:pt x="7579" y="5265"/>
                  <a:pt x="7813" y="52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95280" y="3062160"/>
            <a:ext cx="1830600" cy="27000"/>
          </a:xfrm>
          <a:custGeom>
            <a:avLst/>
            <a:gdLst/>
            <a:ahLst/>
            <a:rect l="l" t="t" r="r" b="b"/>
            <a:pathLst>
              <a:path w="5086" h="75">
                <a:moveTo>
                  <a:pt x="3597" y="8533"/>
                </a:moveTo>
                <a:cubicBezTo>
                  <a:pt x="4516" y="8533"/>
                  <a:pt x="5432" y="8578"/>
                  <a:pt x="6350" y="8582"/>
                </a:cubicBezTo>
                <a:cubicBezTo>
                  <a:pt x="7093" y="8585"/>
                  <a:pt x="7818" y="8552"/>
                  <a:pt x="8558" y="8508"/>
                </a:cubicBezTo>
                <a:cubicBezTo>
                  <a:pt x="8599" y="8508"/>
                  <a:pt x="8641" y="8508"/>
                  <a:pt x="8682" y="85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33640" y="4321080"/>
            <a:ext cx="1831680" cy="90720"/>
          </a:xfrm>
          <a:custGeom>
            <a:avLst/>
            <a:gdLst/>
            <a:ahLst/>
            <a:rect l="l" t="t" r="r" b="b"/>
            <a:pathLst>
              <a:path w="5086" h="250">
                <a:moveTo>
                  <a:pt x="3150" y="12229"/>
                </a:moveTo>
                <a:cubicBezTo>
                  <a:pt x="3440" y="12238"/>
                  <a:pt x="3727" y="12252"/>
                  <a:pt x="4018" y="12254"/>
                </a:cubicBezTo>
                <a:cubicBezTo>
                  <a:pt x="4867" y="12259"/>
                  <a:pt x="5726" y="12269"/>
                  <a:pt x="6573" y="12204"/>
                </a:cubicBezTo>
                <a:cubicBezTo>
                  <a:pt x="7121" y="12162"/>
                  <a:pt x="7666" y="12081"/>
                  <a:pt x="8210" y="12005"/>
                </a:cubicBezTo>
                <a:cubicBezTo>
                  <a:pt x="8218" y="12005"/>
                  <a:pt x="8227" y="12005"/>
                  <a:pt x="8235" y="120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6400800" cy="2032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Unit 5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Expressions, Equations and Integers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jective:  Students will solve for the unknown in subtraction equation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4983120" y="4973760"/>
            <a:ext cx="1812960" cy="71280"/>
          </a:xfrm>
          <a:custGeom>
            <a:avLst/>
            <a:gdLst/>
            <a:ahLst/>
            <a:rect l="l" t="t" r="r" b="b"/>
            <a:pathLst>
              <a:path w="5036" h="200">
                <a:moveTo>
                  <a:pt x="13891" y="14015"/>
                </a:moveTo>
                <a:cubicBezTo>
                  <a:pt x="13922" y="13983"/>
                  <a:pt x="13873" y="14005"/>
                  <a:pt x="13915" y="13990"/>
                </a:cubicBezTo>
                <a:cubicBezTo>
                  <a:pt x="14084" y="13930"/>
                  <a:pt x="14257" y="13896"/>
                  <a:pt x="14436" y="13891"/>
                </a:cubicBezTo>
                <a:cubicBezTo>
                  <a:pt x="14505" y="13889"/>
                  <a:pt x="14573" y="13870"/>
                  <a:pt x="14635" y="13866"/>
                </a:cubicBezTo>
                <a:cubicBezTo>
                  <a:pt x="14756" y="13858"/>
                  <a:pt x="14863" y="13862"/>
                  <a:pt x="14982" y="13841"/>
                </a:cubicBezTo>
                <a:cubicBezTo>
                  <a:pt x="15250" y="13794"/>
                  <a:pt x="15507" y="13830"/>
                  <a:pt x="15776" y="13841"/>
                </a:cubicBezTo>
                <a:cubicBezTo>
                  <a:pt x="16025" y="13851"/>
                  <a:pt x="16272" y="13862"/>
                  <a:pt x="16520" y="13891"/>
                </a:cubicBezTo>
                <a:cubicBezTo>
                  <a:pt x="16768" y="13920"/>
                  <a:pt x="17014" y="13937"/>
                  <a:pt x="17264" y="13940"/>
                </a:cubicBezTo>
                <a:cubicBezTo>
                  <a:pt x="17548" y="13944"/>
                  <a:pt x="17848" y="13935"/>
                  <a:pt x="18132" y="13915"/>
                </a:cubicBezTo>
                <a:cubicBezTo>
                  <a:pt x="18326" y="13901"/>
                  <a:pt x="18535" y="13915"/>
                  <a:pt x="18728" y="13891"/>
                </a:cubicBezTo>
                <a:cubicBezTo>
                  <a:pt x="18879" y="13872"/>
                  <a:pt x="18788" y="13891"/>
                  <a:pt x="18876" y="138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jective:  Students will solve for the unknown in subtraction equations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18116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00"/>
                </a:solidFill>
                <a:uFillTx/>
                <a:latin typeface="Comic Sans MS"/>
              </a:rPr>
              <a:t>Solving Subtraction Equ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- To isolate the variable in a subtraction problem, use the inverse operation (</a:t>
            </a:r>
            <a:r>
              <a:rPr b="0" i="1" lang="en-US" sz="3200" spc="-1" strike="noStrike">
                <a:solidFill>
                  <a:srgbClr val="006600"/>
                </a:solidFill>
                <a:latin typeface="Comic Sans MS"/>
              </a:rPr>
              <a:t>add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the same number to each side) so that the variable is by itself on one side of the equatio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3251160" y="3143160"/>
            <a:ext cx="766800" cy="206640"/>
          </a:xfrm>
          <a:custGeom>
            <a:avLst/>
            <a:gdLst/>
            <a:ahLst/>
            <a:rect l="l" t="t" r="r" b="b"/>
            <a:pathLst>
              <a:path w="2134" h="572">
                <a:moveTo>
                  <a:pt x="9029" y="9004"/>
                </a:moveTo>
                <a:cubicBezTo>
                  <a:pt x="9095" y="8997"/>
                  <a:pt x="9162" y="8991"/>
                  <a:pt x="9227" y="8979"/>
                </a:cubicBezTo>
                <a:cubicBezTo>
                  <a:pt x="9345" y="8957"/>
                  <a:pt x="9458" y="8926"/>
                  <a:pt x="9575" y="8905"/>
                </a:cubicBezTo>
                <a:cubicBezTo>
                  <a:pt x="9648" y="8892"/>
                  <a:pt x="9723" y="8864"/>
                  <a:pt x="9798" y="8855"/>
                </a:cubicBezTo>
                <a:cubicBezTo>
                  <a:pt x="9915" y="8841"/>
                  <a:pt x="10030" y="8795"/>
                  <a:pt x="10145" y="8781"/>
                </a:cubicBezTo>
                <a:cubicBezTo>
                  <a:pt x="10288" y="8764"/>
                  <a:pt x="10448" y="8766"/>
                  <a:pt x="10592" y="8756"/>
                </a:cubicBezTo>
                <a:cubicBezTo>
                  <a:pt x="10744" y="8746"/>
                  <a:pt x="10997" y="8711"/>
                  <a:pt x="11137" y="8731"/>
                </a:cubicBezTo>
                <a:cubicBezTo>
                  <a:pt x="11198" y="8740"/>
                  <a:pt x="11093" y="8778"/>
                  <a:pt x="11038" y="8806"/>
                </a:cubicBezTo>
              </a:path>
              <a:path w="2134" h="572">
                <a:moveTo>
                  <a:pt x="9327" y="9302"/>
                </a:moveTo>
                <a:cubicBezTo>
                  <a:pt x="9422" y="9254"/>
                  <a:pt x="9472" y="9227"/>
                  <a:pt x="9575" y="9203"/>
                </a:cubicBezTo>
                <a:cubicBezTo>
                  <a:pt x="9823" y="9146"/>
                  <a:pt x="10090" y="9096"/>
                  <a:pt x="10344" y="9079"/>
                </a:cubicBezTo>
                <a:cubicBezTo>
                  <a:pt x="10481" y="9070"/>
                  <a:pt x="10607" y="9072"/>
                  <a:pt x="10740" y="9054"/>
                </a:cubicBezTo>
                <a:cubicBezTo>
                  <a:pt x="10804" y="9045"/>
                  <a:pt x="10875" y="9054"/>
                  <a:pt x="10939" y="90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8153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jective:  Students will solve for the unknown in subtraction equation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s: Solving Subtraction Equ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) x - 2 = 8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) 13 = n - 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) m – 3.1 = 11.9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6000" y="2303640"/>
            <a:ext cx="135000" cy="223560"/>
          </a:xfrm>
          <a:custGeom>
            <a:avLst/>
            <a:gdLst/>
            <a:ahLst/>
            <a:rect l="l" t="t" r="r" b="b"/>
            <a:pathLst>
              <a:path w="373" h="621">
                <a:moveTo>
                  <a:pt x="3101" y="6548"/>
                </a:moveTo>
                <a:cubicBezTo>
                  <a:pt x="3224" y="6611"/>
                  <a:pt x="3295" y="6752"/>
                  <a:pt x="3398" y="6846"/>
                </a:cubicBezTo>
                <a:cubicBezTo>
                  <a:pt x="3439" y="6866"/>
                  <a:pt x="3455" y="6864"/>
                  <a:pt x="3448" y="6896"/>
                </a:cubicBezTo>
              </a:path>
              <a:path w="373" h="621">
                <a:moveTo>
                  <a:pt x="3473" y="6400"/>
                </a:moveTo>
                <a:cubicBezTo>
                  <a:pt x="3412" y="6602"/>
                  <a:pt x="3285" y="6814"/>
                  <a:pt x="3249" y="7020"/>
                </a:cubicBezTo>
                <a:cubicBezTo>
                  <a:pt x="3257" y="7020"/>
                  <a:pt x="3266" y="7020"/>
                  <a:pt x="3274" y="70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00200" y="2303640"/>
            <a:ext cx="214560" cy="188640"/>
          </a:xfrm>
          <a:custGeom>
            <a:avLst/>
            <a:gdLst/>
            <a:ahLst/>
            <a:rect l="l" t="t" r="r" b="b"/>
            <a:pathLst>
              <a:path w="597" h="522">
                <a:moveTo>
                  <a:pt x="6970" y="6424"/>
                </a:moveTo>
                <a:cubicBezTo>
                  <a:pt x="6970" y="6416"/>
                  <a:pt x="6970" y="6408"/>
                  <a:pt x="6970" y="6400"/>
                </a:cubicBezTo>
                <a:cubicBezTo>
                  <a:pt x="6942" y="6537"/>
                  <a:pt x="7007" y="6723"/>
                  <a:pt x="6995" y="6871"/>
                </a:cubicBezTo>
                <a:cubicBezTo>
                  <a:pt x="6972" y="6894"/>
                  <a:pt x="6964" y="6898"/>
                  <a:pt x="6970" y="6921"/>
                </a:cubicBezTo>
              </a:path>
              <a:path w="597" h="522">
                <a:moveTo>
                  <a:pt x="7342" y="6400"/>
                </a:moveTo>
                <a:cubicBezTo>
                  <a:pt x="7245" y="6515"/>
                  <a:pt x="7210" y="6646"/>
                  <a:pt x="7193" y="6796"/>
                </a:cubicBezTo>
                <a:cubicBezTo>
                  <a:pt x="7193" y="6829"/>
                  <a:pt x="7193" y="6863"/>
                  <a:pt x="7193" y="6896"/>
                </a:cubicBezTo>
                <a:cubicBezTo>
                  <a:pt x="7370" y="6937"/>
                  <a:pt x="7435" y="6902"/>
                  <a:pt x="7516" y="6722"/>
                </a:cubicBezTo>
                <a:cubicBezTo>
                  <a:pt x="7570" y="6602"/>
                  <a:pt x="7534" y="6488"/>
                  <a:pt x="7417" y="6449"/>
                </a:cubicBezTo>
                <a:cubicBezTo>
                  <a:pt x="7409" y="6449"/>
                  <a:pt x="7400" y="6449"/>
                  <a:pt x="7392" y="64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38800" y="1490760"/>
            <a:ext cx="303120" cy="314280"/>
          </a:xfrm>
          <a:custGeom>
            <a:avLst/>
            <a:gdLst/>
            <a:ahLst/>
            <a:rect l="l" t="t" r="r" b="b"/>
            <a:pathLst>
              <a:path w="844" h="870">
                <a:moveTo>
                  <a:pt x="12328" y="4192"/>
                </a:moveTo>
                <a:cubicBezTo>
                  <a:pt x="12357" y="4422"/>
                  <a:pt x="12387" y="4655"/>
                  <a:pt x="12402" y="4887"/>
                </a:cubicBezTo>
                <a:cubicBezTo>
                  <a:pt x="12402" y="4961"/>
                  <a:pt x="12402" y="4970"/>
                  <a:pt x="12402" y="5011"/>
                </a:cubicBezTo>
              </a:path>
              <a:path w="844" h="870">
                <a:moveTo>
                  <a:pt x="12799" y="4217"/>
                </a:moveTo>
                <a:cubicBezTo>
                  <a:pt x="12694" y="4322"/>
                  <a:pt x="12561" y="4615"/>
                  <a:pt x="12601" y="4787"/>
                </a:cubicBezTo>
                <a:cubicBezTo>
                  <a:pt x="12670" y="5085"/>
                  <a:pt x="13072" y="4951"/>
                  <a:pt x="13146" y="4738"/>
                </a:cubicBezTo>
                <a:cubicBezTo>
                  <a:pt x="13241" y="4463"/>
                  <a:pt x="13161" y="4325"/>
                  <a:pt x="12973" y="4167"/>
                </a:cubicBezTo>
                <a:cubicBezTo>
                  <a:pt x="12965" y="4159"/>
                  <a:pt x="12956" y="4150"/>
                  <a:pt x="12948" y="41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31960" y="1911240"/>
            <a:ext cx="2778120" cy="411120"/>
          </a:xfrm>
          <a:custGeom>
            <a:avLst/>
            <a:gdLst/>
            <a:ahLst/>
            <a:rect l="l" t="t" r="r" b="b"/>
            <a:pathLst>
              <a:path w="7715" h="1142">
                <a:moveTo>
                  <a:pt x="4862" y="5457"/>
                </a:moveTo>
                <a:cubicBezTo>
                  <a:pt x="4821" y="5457"/>
                  <a:pt x="4849" y="5444"/>
                  <a:pt x="4812" y="5432"/>
                </a:cubicBezTo>
              </a:path>
              <a:path w="7715" h="1142">
                <a:moveTo>
                  <a:pt x="4812" y="5432"/>
                </a:moveTo>
                <a:lnTo>
                  <a:pt x="4812" y="5432"/>
                </a:lnTo>
              </a:path>
              <a:path w="7715" h="1142">
                <a:moveTo>
                  <a:pt x="5854" y="6449"/>
                </a:moveTo>
                <a:cubicBezTo>
                  <a:pt x="5980" y="6404"/>
                  <a:pt x="6101" y="6348"/>
                  <a:pt x="6226" y="6300"/>
                </a:cubicBezTo>
              </a:path>
              <a:path w="7715" h="1142">
                <a:moveTo>
                  <a:pt x="12030" y="5383"/>
                </a:moveTo>
                <a:cubicBezTo>
                  <a:pt x="12195" y="5356"/>
                  <a:pt x="12360" y="5332"/>
                  <a:pt x="12526" y="53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330200" y="1276200"/>
            <a:ext cx="3733920" cy="1349640"/>
          </a:xfrm>
          <a:custGeom>
            <a:avLst/>
            <a:gdLst/>
            <a:ahLst/>
            <a:rect l="l" t="t" r="r" b="b"/>
            <a:pathLst>
              <a:path w="10369" h="3747">
                <a:moveTo>
                  <a:pt x="4093" y="5333"/>
                </a:moveTo>
                <a:cubicBezTo>
                  <a:pt x="4026" y="5355"/>
                  <a:pt x="4046" y="5509"/>
                  <a:pt x="4043" y="5581"/>
                </a:cubicBezTo>
                <a:cubicBezTo>
                  <a:pt x="4041" y="5629"/>
                  <a:pt x="3998" y="5674"/>
                  <a:pt x="4043" y="5631"/>
                </a:cubicBezTo>
              </a:path>
              <a:path w="10369" h="3747">
                <a:moveTo>
                  <a:pt x="3944" y="5507"/>
                </a:moveTo>
                <a:cubicBezTo>
                  <a:pt x="4027" y="5507"/>
                  <a:pt x="4109" y="5507"/>
                  <a:pt x="4192" y="5507"/>
                </a:cubicBezTo>
              </a:path>
              <a:path w="10369" h="3747">
                <a:moveTo>
                  <a:pt x="4812" y="5407"/>
                </a:moveTo>
                <a:cubicBezTo>
                  <a:pt x="4899" y="5321"/>
                  <a:pt x="4939" y="5270"/>
                  <a:pt x="5060" y="5259"/>
                </a:cubicBezTo>
                <a:cubicBezTo>
                  <a:pt x="5112" y="5259"/>
                  <a:pt x="5130" y="5260"/>
                  <a:pt x="5159" y="5283"/>
                </a:cubicBezTo>
                <a:cubicBezTo>
                  <a:pt x="5144" y="5473"/>
                  <a:pt x="5059" y="5519"/>
                  <a:pt x="4936" y="5655"/>
                </a:cubicBezTo>
                <a:cubicBezTo>
                  <a:pt x="4889" y="5707"/>
                  <a:pt x="4791" y="5885"/>
                  <a:pt x="4738" y="5904"/>
                </a:cubicBezTo>
                <a:cubicBezTo>
                  <a:pt x="4848" y="5856"/>
                  <a:pt x="4899" y="5713"/>
                  <a:pt x="5011" y="5680"/>
                </a:cubicBezTo>
                <a:cubicBezTo>
                  <a:pt x="5027" y="5675"/>
                  <a:pt x="5135" y="5777"/>
                  <a:pt x="5184" y="5779"/>
                </a:cubicBezTo>
                <a:cubicBezTo>
                  <a:pt x="5258" y="5783"/>
                  <a:pt x="5269" y="5755"/>
                  <a:pt x="5333" y="5755"/>
                </a:cubicBezTo>
              </a:path>
              <a:path w="10369" h="3747">
                <a:moveTo>
                  <a:pt x="6573" y="5333"/>
                </a:moveTo>
                <a:cubicBezTo>
                  <a:pt x="6573" y="5438"/>
                  <a:pt x="6563" y="5528"/>
                  <a:pt x="6548" y="5631"/>
                </a:cubicBezTo>
                <a:cubicBezTo>
                  <a:pt x="6548" y="5655"/>
                  <a:pt x="6548" y="5664"/>
                  <a:pt x="6548" y="5680"/>
                </a:cubicBezTo>
              </a:path>
              <a:path w="10369" h="3747">
                <a:moveTo>
                  <a:pt x="6424" y="5531"/>
                </a:moveTo>
                <a:cubicBezTo>
                  <a:pt x="6547" y="5494"/>
                  <a:pt x="6671" y="5463"/>
                  <a:pt x="6796" y="5432"/>
                </a:cubicBezTo>
                <a:cubicBezTo>
                  <a:pt x="6829" y="5424"/>
                  <a:pt x="6863" y="5415"/>
                  <a:pt x="6896" y="5407"/>
                </a:cubicBezTo>
              </a:path>
              <a:path w="10369" h="3747">
                <a:moveTo>
                  <a:pt x="6970" y="5383"/>
                </a:moveTo>
                <a:cubicBezTo>
                  <a:pt x="6990" y="5265"/>
                  <a:pt x="7045" y="5267"/>
                  <a:pt x="7144" y="5209"/>
                </a:cubicBezTo>
                <a:cubicBezTo>
                  <a:pt x="7274" y="5366"/>
                  <a:pt x="7184" y="5447"/>
                  <a:pt x="7094" y="5606"/>
                </a:cubicBezTo>
                <a:cubicBezTo>
                  <a:pt x="7037" y="5706"/>
                  <a:pt x="6975" y="5803"/>
                  <a:pt x="6921" y="5904"/>
                </a:cubicBezTo>
                <a:cubicBezTo>
                  <a:pt x="6921" y="5804"/>
                  <a:pt x="6959" y="5756"/>
                  <a:pt x="7020" y="5680"/>
                </a:cubicBezTo>
                <a:cubicBezTo>
                  <a:pt x="7132" y="5680"/>
                  <a:pt x="7140" y="5775"/>
                  <a:pt x="7243" y="5804"/>
                </a:cubicBezTo>
                <a:cubicBezTo>
                  <a:pt x="7345" y="5833"/>
                  <a:pt x="7470" y="5782"/>
                  <a:pt x="7516" y="5705"/>
                </a:cubicBezTo>
              </a:path>
              <a:path w="10369" h="3747">
                <a:moveTo>
                  <a:pt x="5953" y="6648"/>
                </a:moveTo>
                <a:cubicBezTo>
                  <a:pt x="6040" y="6619"/>
                  <a:pt x="6110" y="6573"/>
                  <a:pt x="6201" y="6573"/>
                </a:cubicBezTo>
              </a:path>
              <a:path w="10369" h="3747">
                <a:moveTo>
                  <a:pt x="5680" y="4440"/>
                </a:moveTo>
                <a:cubicBezTo>
                  <a:pt x="5662" y="4352"/>
                  <a:pt x="5663" y="4253"/>
                  <a:pt x="5631" y="4167"/>
                </a:cubicBezTo>
                <a:cubicBezTo>
                  <a:pt x="5576" y="4019"/>
                  <a:pt x="5470" y="3856"/>
                  <a:pt x="5358" y="3746"/>
                </a:cubicBezTo>
                <a:cubicBezTo>
                  <a:pt x="5269" y="3659"/>
                  <a:pt x="5085" y="3567"/>
                  <a:pt x="4961" y="3547"/>
                </a:cubicBezTo>
                <a:cubicBezTo>
                  <a:pt x="4791" y="3519"/>
                  <a:pt x="4557" y="3532"/>
                  <a:pt x="4390" y="3572"/>
                </a:cubicBezTo>
                <a:cubicBezTo>
                  <a:pt x="4197" y="3618"/>
                  <a:pt x="4072" y="3707"/>
                  <a:pt x="3944" y="3845"/>
                </a:cubicBezTo>
                <a:cubicBezTo>
                  <a:pt x="3813" y="3987"/>
                  <a:pt x="3726" y="4173"/>
                  <a:pt x="3696" y="4366"/>
                </a:cubicBezTo>
                <a:cubicBezTo>
                  <a:pt x="3670" y="4531"/>
                  <a:pt x="3718" y="4701"/>
                  <a:pt x="3746" y="4862"/>
                </a:cubicBezTo>
                <a:cubicBezTo>
                  <a:pt x="3780" y="5060"/>
                  <a:pt x="3811" y="5262"/>
                  <a:pt x="3845" y="5457"/>
                </a:cubicBezTo>
                <a:cubicBezTo>
                  <a:pt x="3874" y="5626"/>
                  <a:pt x="3885" y="5806"/>
                  <a:pt x="3894" y="5978"/>
                </a:cubicBezTo>
                <a:cubicBezTo>
                  <a:pt x="3903" y="6141"/>
                  <a:pt x="3909" y="6259"/>
                  <a:pt x="3994" y="6400"/>
                </a:cubicBezTo>
                <a:cubicBezTo>
                  <a:pt x="4044" y="6483"/>
                  <a:pt x="4094" y="6518"/>
                  <a:pt x="4192" y="6548"/>
                </a:cubicBezTo>
                <a:cubicBezTo>
                  <a:pt x="4340" y="6594"/>
                  <a:pt x="4489" y="6574"/>
                  <a:pt x="4638" y="6548"/>
                </a:cubicBezTo>
                <a:cubicBezTo>
                  <a:pt x="4791" y="6521"/>
                  <a:pt x="4933" y="6461"/>
                  <a:pt x="5085" y="6424"/>
                </a:cubicBezTo>
                <a:cubicBezTo>
                  <a:pt x="5190" y="6399"/>
                  <a:pt x="5283" y="6362"/>
                  <a:pt x="5383" y="6325"/>
                </a:cubicBezTo>
                <a:cubicBezTo>
                  <a:pt x="5450" y="6301"/>
                  <a:pt x="5480" y="6296"/>
                  <a:pt x="5531" y="6226"/>
                </a:cubicBezTo>
                <a:cubicBezTo>
                  <a:pt x="5605" y="6126"/>
                  <a:pt x="5656" y="6000"/>
                  <a:pt x="5680" y="5879"/>
                </a:cubicBezTo>
                <a:cubicBezTo>
                  <a:pt x="5700" y="5781"/>
                  <a:pt x="5703" y="5682"/>
                  <a:pt x="5705" y="5581"/>
                </a:cubicBezTo>
                <a:cubicBezTo>
                  <a:pt x="5708" y="5404"/>
                  <a:pt x="5692" y="5232"/>
                  <a:pt x="5680" y="5060"/>
                </a:cubicBezTo>
                <a:cubicBezTo>
                  <a:pt x="5669" y="4903"/>
                  <a:pt x="5667" y="4743"/>
                  <a:pt x="5655" y="4589"/>
                </a:cubicBezTo>
                <a:cubicBezTo>
                  <a:pt x="5645" y="4464"/>
                  <a:pt x="5676" y="4337"/>
                  <a:pt x="5631" y="4217"/>
                </a:cubicBezTo>
                <a:cubicBezTo>
                  <a:pt x="5623" y="4209"/>
                  <a:pt x="5614" y="4200"/>
                  <a:pt x="5606" y="4192"/>
                </a:cubicBezTo>
              </a:path>
              <a:path w="10369" h="3747">
                <a:moveTo>
                  <a:pt x="5184" y="6176"/>
                </a:moveTo>
                <a:cubicBezTo>
                  <a:pt x="5139" y="6187"/>
                  <a:pt x="5119" y="6224"/>
                  <a:pt x="5110" y="6276"/>
                </a:cubicBezTo>
                <a:cubicBezTo>
                  <a:pt x="5095" y="6361"/>
                  <a:pt x="5109" y="6380"/>
                  <a:pt x="5159" y="6424"/>
                </a:cubicBezTo>
                <a:cubicBezTo>
                  <a:pt x="5201" y="6462"/>
                  <a:pt x="5288" y="6393"/>
                  <a:pt x="5308" y="6350"/>
                </a:cubicBezTo>
                <a:cubicBezTo>
                  <a:pt x="5332" y="6298"/>
                  <a:pt x="5279" y="6220"/>
                  <a:pt x="5234" y="6201"/>
                </a:cubicBezTo>
                <a:cubicBezTo>
                  <a:pt x="5190" y="6183"/>
                  <a:pt x="5163" y="6204"/>
                  <a:pt x="5135" y="6226"/>
                </a:cubicBezTo>
              </a:path>
              <a:path w="10369" h="3747">
                <a:moveTo>
                  <a:pt x="12923" y="5184"/>
                </a:moveTo>
                <a:cubicBezTo>
                  <a:pt x="13000" y="5146"/>
                  <a:pt x="13053" y="5044"/>
                  <a:pt x="13171" y="5035"/>
                </a:cubicBezTo>
                <a:cubicBezTo>
                  <a:pt x="13204" y="5043"/>
                  <a:pt x="13238" y="5052"/>
                  <a:pt x="13271" y="5060"/>
                </a:cubicBezTo>
                <a:cubicBezTo>
                  <a:pt x="13286" y="5302"/>
                  <a:pt x="13130" y="5491"/>
                  <a:pt x="12973" y="5680"/>
                </a:cubicBezTo>
                <a:cubicBezTo>
                  <a:pt x="12901" y="5752"/>
                  <a:pt x="12868" y="5747"/>
                  <a:pt x="12874" y="5804"/>
                </a:cubicBezTo>
                <a:cubicBezTo>
                  <a:pt x="13053" y="5764"/>
                  <a:pt x="13216" y="5678"/>
                  <a:pt x="13395" y="5631"/>
                </a:cubicBezTo>
                <a:cubicBezTo>
                  <a:pt x="13556" y="5588"/>
                  <a:pt x="13480" y="5609"/>
                  <a:pt x="13568" y="5631"/>
                </a:cubicBezTo>
              </a:path>
              <a:path w="10369" h="3747">
                <a:moveTo>
                  <a:pt x="11708" y="6201"/>
                </a:moveTo>
                <a:cubicBezTo>
                  <a:pt x="12185" y="6321"/>
                  <a:pt x="12662" y="6165"/>
                  <a:pt x="13146" y="6102"/>
                </a:cubicBezTo>
                <a:cubicBezTo>
                  <a:pt x="13451" y="6063"/>
                  <a:pt x="13757" y="6040"/>
                  <a:pt x="14064" y="6028"/>
                </a:cubicBezTo>
              </a:path>
              <a:path w="10369" h="3747">
                <a:moveTo>
                  <a:pt x="13568" y="6548"/>
                </a:moveTo>
                <a:cubicBezTo>
                  <a:pt x="13299" y="6515"/>
                  <a:pt x="13175" y="6628"/>
                  <a:pt x="12973" y="6796"/>
                </a:cubicBezTo>
                <a:cubicBezTo>
                  <a:pt x="13083" y="6873"/>
                  <a:pt x="13651" y="6948"/>
                  <a:pt x="13618" y="7119"/>
                </a:cubicBezTo>
                <a:cubicBezTo>
                  <a:pt x="13508" y="7251"/>
                  <a:pt x="13489" y="7296"/>
                  <a:pt x="13370" y="7293"/>
                </a:cubicBezTo>
                <a:cubicBezTo>
                  <a:pt x="13346" y="7034"/>
                  <a:pt x="13408" y="6885"/>
                  <a:pt x="13494" y="6648"/>
                </a:cubicBezTo>
                <a:cubicBezTo>
                  <a:pt x="13494" y="6640"/>
                  <a:pt x="13494" y="6631"/>
                  <a:pt x="13494" y="6623"/>
                </a:cubicBezTo>
              </a:path>
              <a:path w="10369" h="3747">
                <a:moveTo>
                  <a:pt x="12626" y="7069"/>
                </a:moveTo>
                <a:cubicBezTo>
                  <a:pt x="12544" y="6991"/>
                  <a:pt x="12438" y="6878"/>
                  <a:pt x="12328" y="6796"/>
                </a:cubicBezTo>
                <a:cubicBezTo>
                  <a:pt x="12048" y="6588"/>
                  <a:pt x="11781" y="6368"/>
                  <a:pt x="11509" y="6152"/>
                </a:cubicBezTo>
                <a:cubicBezTo>
                  <a:pt x="11273" y="5964"/>
                  <a:pt x="11010" y="5859"/>
                  <a:pt x="10740" y="5730"/>
                </a:cubicBezTo>
                <a:cubicBezTo>
                  <a:pt x="10500" y="5616"/>
                  <a:pt x="10264" y="5515"/>
                  <a:pt x="10021" y="5407"/>
                </a:cubicBezTo>
                <a:cubicBezTo>
                  <a:pt x="9689" y="5259"/>
                  <a:pt x="9359" y="5076"/>
                  <a:pt x="9004" y="4986"/>
                </a:cubicBezTo>
                <a:cubicBezTo>
                  <a:pt x="8692" y="4907"/>
                  <a:pt x="8395" y="4907"/>
                  <a:pt x="8111" y="4762"/>
                </a:cubicBezTo>
                <a:cubicBezTo>
                  <a:pt x="8106" y="4759"/>
                  <a:pt x="7963" y="4683"/>
                  <a:pt x="7962" y="4688"/>
                </a:cubicBezTo>
                <a:cubicBezTo>
                  <a:pt x="7957" y="4730"/>
                  <a:pt x="8086" y="4930"/>
                  <a:pt x="8136" y="5011"/>
                </a:cubicBezTo>
                <a:cubicBezTo>
                  <a:pt x="8144" y="5019"/>
                  <a:pt x="8153" y="5027"/>
                  <a:pt x="8161" y="5035"/>
                </a:cubicBezTo>
                <a:cubicBezTo>
                  <a:pt x="8057" y="4918"/>
                  <a:pt x="7935" y="4781"/>
                  <a:pt x="7813" y="4663"/>
                </a:cubicBezTo>
                <a:cubicBezTo>
                  <a:pt x="7805" y="4655"/>
                  <a:pt x="7797" y="4646"/>
                  <a:pt x="7789" y="4638"/>
                </a:cubicBezTo>
                <a:cubicBezTo>
                  <a:pt x="7935" y="4602"/>
                  <a:pt x="8127" y="4452"/>
                  <a:pt x="8260" y="4440"/>
                </a:cubicBezTo>
                <a:cubicBezTo>
                  <a:pt x="8295" y="4405"/>
                  <a:pt x="8308" y="4410"/>
                  <a:pt x="8310" y="4490"/>
                </a:cubicBezTo>
              </a:path>
              <a:path w="10369" h="3747">
                <a:moveTo>
                  <a:pt x="8954" y="6325"/>
                </a:moveTo>
                <a:cubicBezTo>
                  <a:pt x="8994" y="6425"/>
                  <a:pt x="8999" y="6443"/>
                  <a:pt x="9029" y="6499"/>
                </a:cubicBezTo>
                <a:cubicBezTo>
                  <a:pt x="9258" y="6321"/>
                  <a:pt x="9468" y="6055"/>
                  <a:pt x="9699" y="58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38240" y="4205160"/>
            <a:ext cx="4197600" cy="1733760"/>
          </a:xfrm>
          <a:custGeom>
            <a:avLst/>
            <a:gdLst/>
            <a:ahLst/>
            <a:rect l="l" t="t" r="r" b="b"/>
            <a:pathLst>
              <a:path w="11659" h="4813">
                <a:moveTo>
                  <a:pt x="7789" y="15007"/>
                </a:moveTo>
                <a:cubicBezTo>
                  <a:pt x="7781" y="15023"/>
                  <a:pt x="7772" y="15040"/>
                  <a:pt x="7764" y="15056"/>
                </a:cubicBezTo>
              </a:path>
              <a:path w="11659" h="4813">
                <a:moveTo>
                  <a:pt x="7590" y="14288"/>
                </a:moveTo>
                <a:cubicBezTo>
                  <a:pt x="7590" y="14211"/>
                  <a:pt x="7615" y="14505"/>
                  <a:pt x="7615" y="14511"/>
                </a:cubicBezTo>
                <a:cubicBezTo>
                  <a:pt x="7615" y="14577"/>
                  <a:pt x="7615" y="14594"/>
                  <a:pt x="7615" y="14635"/>
                </a:cubicBezTo>
              </a:path>
              <a:path w="11659" h="4813">
                <a:moveTo>
                  <a:pt x="7516" y="14486"/>
                </a:moveTo>
                <a:cubicBezTo>
                  <a:pt x="7596" y="14454"/>
                  <a:pt x="7679" y="14426"/>
                  <a:pt x="7764" y="14412"/>
                </a:cubicBezTo>
              </a:path>
              <a:path w="11659" h="4813">
                <a:moveTo>
                  <a:pt x="8582" y="14263"/>
                </a:moveTo>
                <a:cubicBezTo>
                  <a:pt x="8647" y="14241"/>
                  <a:pt x="8711" y="14211"/>
                  <a:pt x="8781" y="14188"/>
                </a:cubicBezTo>
                <a:cubicBezTo>
                  <a:pt x="8798" y="14307"/>
                  <a:pt x="8801" y="14390"/>
                  <a:pt x="8706" y="14486"/>
                </a:cubicBezTo>
                <a:cubicBezTo>
                  <a:pt x="8698" y="14486"/>
                  <a:pt x="8690" y="14486"/>
                  <a:pt x="8682" y="14486"/>
                </a:cubicBezTo>
                <a:cubicBezTo>
                  <a:pt x="8752" y="14486"/>
                  <a:pt x="8871" y="14506"/>
                  <a:pt x="8855" y="14610"/>
                </a:cubicBezTo>
                <a:cubicBezTo>
                  <a:pt x="8842" y="14698"/>
                  <a:pt x="8666" y="14820"/>
                  <a:pt x="8582" y="14759"/>
                </a:cubicBezTo>
                <a:cubicBezTo>
                  <a:pt x="8582" y="14751"/>
                  <a:pt x="8582" y="14742"/>
                  <a:pt x="8582" y="14734"/>
                </a:cubicBezTo>
              </a:path>
              <a:path w="11659" h="4813">
                <a:moveTo>
                  <a:pt x="9128" y="14585"/>
                </a:moveTo>
                <a:cubicBezTo>
                  <a:pt x="9097" y="14679"/>
                  <a:pt x="9128" y="14632"/>
                  <a:pt x="9128" y="14585"/>
                </a:cubicBezTo>
              </a:path>
              <a:path w="11659" h="4813">
                <a:moveTo>
                  <a:pt x="9426" y="14163"/>
                </a:moveTo>
                <a:cubicBezTo>
                  <a:pt x="9426" y="14281"/>
                  <a:pt x="9447" y="14393"/>
                  <a:pt x="9451" y="14511"/>
                </a:cubicBezTo>
                <a:cubicBezTo>
                  <a:pt x="9452" y="14552"/>
                  <a:pt x="9451" y="14594"/>
                  <a:pt x="9451" y="14635"/>
                </a:cubicBezTo>
              </a:path>
              <a:path w="11659" h="4813">
                <a:moveTo>
                  <a:pt x="10319" y="15379"/>
                </a:moveTo>
                <a:cubicBezTo>
                  <a:pt x="10254" y="15379"/>
                  <a:pt x="10171" y="15384"/>
                  <a:pt x="10120" y="15429"/>
                </a:cubicBezTo>
                <a:cubicBezTo>
                  <a:pt x="10094" y="15452"/>
                  <a:pt x="10077" y="15638"/>
                  <a:pt x="10071" y="15677"/>
                </a:cubicBezTo>
                <a:cubicBezTo>
                  <a:pt x="10214" y="15663"/>
                  <a:pt x="10286" y="15645"/>
                  <a:pt x="10418" y="15701"/>
                </a:cubicBezTo>
                <a:cubicBezTo>
                  <a:pt x="10418" y="15950"/>
                  <a:pt x="10243" y="15849"/>
                  <a:pt x="10071" y="15776"/>
                </a:cubicBezTo>
              </a:path>
              <a:path w="11659" h="4813">
                <a:moveTo>
                  <a:pt x="10096" y="14288"/>
                </a:moveTo>
                <a:cubicBezTo>
                  <a:pt x="10015" y="14448"/>
                  <a:pt x="9961" y="14560"/>
                  <a:pt x="9971" y="14734"/>
                </a:cubicBezTo>
                <a:cubicBezTo>
                  <a:pt x="10133" y="14725"/>
                  <a:pt x="10374" y="14580"/>
                  <a:pt x="10195" y="14362"/>
                </a:cubicBezTo>
                <a:cubicBezTo>
                  <a:pt x="10146" y="14302"/>
                  <a:pt x="10025" y="14354"/>
                  <a:pt x="9971" y="14362"/>
                </a:cubicBezTo>
              </a:path>
              <a:path w="11659" h="4813">
                <a:moveTo>
                  <a:pt x="9525" y="15478"/>
                </a:moveTo>
                <a:cubicBezTo>
                  <a:pt x="9377" y="15560"/>
                  <a:pt x="9306" y="15788"/>
                  <a:pt x="9302" y="15974"/>
                </a:cubicBezTo>
                <a:cubicBezTo>
                  <a:pt x="9310" y="15999"/>
                  <a:pt x="9319" y="16024"/>
                  <a:pt x="9327" y="16049"/>
                </a:cubicBezTo>
                <a:cubicBezTo>
                  <a:pt x="9492" y="15981"/>
                  <a:pt x="9697" y="15852"/>
                  <a:pt x="9575" y="15627"/>
                </a:cubicBezTo>
                <a:cubicBezTo>
                  <a:pt x="9490" y="15564"/>
                  <a:pt x="9469" y="15552"/>
                  <a:pt x="9426" y="15503"/>
                </a:cubicBezTo>
              </a:path>
              <a:path w="11659" h="4813">
                <a:moveTo>
                  <a:pt x="8855" y="15974"/>
                </a:moveTo>
                <a:cubicBezTo>
                  <a:pt x="8855" y="16015"/>
                  <a:pt x="8865" y="16057"/>
                  <a:pt x="8905" y="15999"/>
                </a:cubicBezTo>
                <a:cubicBezTo>
                  <a:pt x="8925" y="15959"/>
                  <a:pt x="8934" y="15952"/>
                  <a:pt x="8930" y="15925"/>
                </a:cubicBezTo>
                <a:cubicBezTo>
                  <a:pt x="8874" y="15961"/>
                  <a:pt x="8842" y="16087"/>
                  <a:pt x="8905" y="15974"/>
                </a:cubicBezTo>
                <a:cubicBezTo>
                  <a:pt x="8905" y="15966"/>
                  <a:pt x="8905" y="15957"/>
                  <a:pt x="8905" y="15949"/>
                </a:cubicBezTo>
              </a:path>
              <a:path w="11659" h="4813">
                <a:moveTo>
                  <a:pt x="8533" y="15429"/>
                </a:moveTo>
                <a:cubicBezTo>
                  <a:pt x="8477" y="15401"/>
                  <a:pt x="8390" y="15460"/>
                  <a:pt x="8310" y="15478"/>
                </a:cubicBezTo>
                <a:cubicBezTo>
                  <a:pt x="8260" y="15489"/>
                  <a:pt x="8285" y="15605"/>
                  <a:pt x="8285" y="15652"/>
                </a:cubicBezTo>
                <a:cubicBezTo>
                  <a:pt x="8285" y="15693"/>
                  <a:pt x="8285" y="15701"/>
                  <a:pt x="8285" y="15726"/>
                </a:cubicBezTo>
                <a:cubicBezTo>
                  <a:pt x="8380" y="15712"/>
                  <a:pt x="8518" y="15639"/>
                  <a:pt x="8558" y="15776"/>
                </a:cubicBezTo>
                <a:cubicBezTo>
                  <a:pt x="8612" y="15960"/>
                  <a:pt x="8449" y="16033"/>
                  <a:pt x="8310" y="16049"/>
                </a:cubicBezTo>
                <a:cubicBezTo>
                  <a:pt x="8268" y="16049"/>
                  <a:pt x="8260" y="16049"/>
                  <a:pt x="8235" y="16049"/>
                </a:cubicBezTo>
              </a:path>
              <a:path w="11659" h="4813">
                <a:moveTo>
                  <a:pt x="8186" y="14213"/>
                </a:moveTo>
                <a:cubicBezTo>
                  <a:pt x="8094" y="14396"/>
                  <a:pt x="8069" y="14528"/>
                  <a:pt x="8111" y="14734"/>
                </a:cubicBezTo>
                <a:cubicBezTo>
                  <a:pt x="8329" y="14691"/>
                  <a:pt x="8395" y="14496"/>
                  <a:pt x="8359" y="14263"/>
                </a:cubicBezTo>
                <a:cubicBezTo>
                  <a:pt x="8346" y="14177"/>
                  <a:pt x="8274" y="14174"/>
                  <a:pt x="8210" y="14163"/>
                </a:cubicBezTo>
              </a:path>
              <a:path w="11659" h="4813">
                <a:moveTo>
                  <a:pt x="7888" y="15478"/>
                </a:moveTo>
                <a:cubicBezTo>
                  <a:pt x="7903" y="15677"/>
                  <a:pt x="7907" y="15850"/>
                  <a:pt x="7888" y="16049"/>
                </a:cubicBezTo>
                <a:cubicBezTo>
                  <a:pt x="7888" y="16073"/>
                  <a:pt x="7888" y="16081"/>
                  <a:pt x="7913" y="16073"/>
                </a:cubicBezTo>
              </a:path>
              <a:path w="11659" h="4813">
                <a:moveTo>
                  <a:pt x="5383" y="15949"/>
                </a:moveTo>
                <a:cubicBezTo>
                  <a:pt x="5397" y="16082"/>
                  <a:pt x="5425" y="16212"/>
                  <a:pt x="5432" y="16346"/>
                </a:cubicBezTo>
                <a:cubicBezTo>
                  <a:pt x="5432" y="16371"/>
                  <a:pt x="5432" y="16379"/>
                  <a:pt x="5432" y="16346"/>
                </a:cubicBezTo>
                <a:cubicBezTo>
                  <a:pt x="5423" y="16274"/>
                  <a:pt x="5377" y="15982"/>
                  <a:pt x="5507" y="15974"/>
                </a:cubicBezTo>
                <a:cubicBezTo>
                  <a:pt x="5714" y="15961"/>
                  <a:pt x="5778" y="16195"/>
                  <a:pt x="5804" y="16346"/>
                </a:cubicBezTo>
                <a:cubicBezTo>
                  <a:pt x="5766" y="16232"/>
                  <a:pt x="5767" y="16164"/>
                  <a:pt x="5779" y="16049"/>
                </a:cubicBezTo>
                <a:cubicBezTo>
                  <a:pt x="5891" y="15993"/>
                  <a:pt x="6006" y="16066"/>
                  <a:pt x="6077" y="16173"/>
                </a:cubicBezTo>
                <a:cubicBezTo>
                  <a:pt x="6133" y="16257"/>
                  <a:pt x="6152" y="16371"/>
                  <a:pt x="6152" y="16470"/>
                </a:cubicBezTo>
                <a:cubicBezTo>
                  <a:pt x="6152" y="16478"/>
                  <a:pt x="6152" y="16487"/>
                  <a:pt x="6152" y="16495"/>
                </a:cubicBezTo>
              </a:path>
              <a:path w="11659" h="4813">
                <a:moveTo>
                  <a:pt x="6672" y="15949"/>
                </a:moveTo>
                <a:cubicBezTo>
                  <a:pt x="6664" y="15949"/>
                  <a:pt x="6656" y="15949"/>
                  <a:pt x="6648" y="15949"/>
                </a:cubicBezTo>
                <a:cubicBezTo>
                  <a:pt x="6700" y="16029"/>
                  <a:pt x="6839" y="15947"/>
                  <a:pt x="6921" y="15925"/>
                </a:cubicBezTo>
                <a:cubicBezTo>
                  <a:pt x="6978" y="15910"/>
                  <a:pt x="6928" y="15964"/>
                  <a:pt x="6921" y="15974"/>
                </a:cubicBezTo>
              </a:path>
              <a:path w="11659" h="4813">
                <a:moveTo>
                  <a:pt x="6672" y="16173"/>
                </a:moveTo>
                <a:cubicBezTo>
                  <a:pt x="6771" y="16173"/>
                  <a:pt x="6855" y="16155"/>
                  <a:pt x="6945" y="16123"/>
                </a:cubicBezTo>
                <a:cubicBezTo>
                  <a:pt x="6986" y="16103"/>
                  <a:pt x="6992" y="16094"/>
                  <a:pt x="7020" y="16098"/>
                </a:cubicBezTo>
              </a:path>
              <a:path w="11659" h="4813">
                <a:moveTo>
                  <a:pt x="9947" y="15925"/>
                </a:moveTo>
                <a:cubicBezTo>
                  <a:pt x="9979" y="15988"/>
                  <a:pt x="10071" y="15988"/>
                  <a:pt x="10145" y="15974"/>
                </a:cubicBezTo>
                <a:cubicBezTo>
                  <a:pt x="10232" y="15958"/>
                  <a:pt x="10294" y="15954"/>
                  <a:pt x="10368" y="15999"/>
                </a:cubicBezTo>
                <a:cubicBezTo>
                  <a:pt x="10344" y="15999"/>
                  <a:pt x="10224" y="15984"/>
                  <a:pt x="10294" y="15974"/>
                </a:cubicBezTo>
                <a:cubicBezTo>
                  <a:pt x="10354" y="15965"/>
                  <a:pt x="10394" y="15956"/>
                  <a:pt x="10418" y="15925"/>
                </a:cubicBezTo>
                <a:cubicBezTo>
                  <a:pt x="10439" y="15898"/>
                  <a:pt x="10457" y="15864"/>
                  <a:pt x="10443" y="15825"/>
                </a:cubicBezTo>
                <a:cubicBezTo>
                  <a:pt x="10418" y="15756"/>
                  <a:pt x="10411" y="15736"/>
                  <a:pt x="10344" y="15701"/>
                </a:cubicBezTo>
                <a:cubicBezTo>
                  <a:pt x="10278" y="15667"/>
                  <a:pt x="10219" y="15657"/>
                  <a:pt x="10145" y="15652"/>
                </a:cubicBezTo>
                <a:cubicBezTo>
                  <a:pt x="10094" y="15649"/>
                  <a:pt x="10064" y="15667"/>
                  <a:pt x="10046" y="15627"/>
                </a:cubicBezTo>
                <a:cubicBezTo>
                  <a:pt x="10029" y="15590"/>
                  <a:pt x="9986" y="15439"/>
                  <a:pt x="10021" y="15404"/>
                </a:cubicBezTo>
                <a:cubicBezTo>
                  <a:pt x="10026" y="15399"/>
                  <a:pt x="10066" y="15333"/>
                  <a:pt x="10071" y="15329"/>
                </a:cubicBezTo>
                <a:cubicBezTo>
                  <a:pt x="10160" y="15270"/>
                  <a:pt x="10459" y="15329"/>
                  <a:pt x="10567" y="15329"/>
                </a:cubicBezTo>
              </a:path>
              <a:path w="11659" h="4813">
                <a:moveTo>
                  <a:pt x="13767" y="12502"/>
                </a:moveTo>
                <a:cubicBezTo>
                  <a:pt x="13767" y="12692"/>
                  <a:pt x="13767" y="12882"/>
                  <a:pt x="13767" y="13072"/>
                </a:cubicBezTo>
              </a:path>
              <a:path w="11659" h="4813">
                <a:moveTo>
                  <a:pt x="14461" y="12378"/>
                </a:moveTo>
                <a:cubicBezTo>
                  <a:pt x="14404" y="12400"/>
                  <a:pt x="14240" y="12428"/>
                  <a:pt x="14213" y="12477"/>
                </a:cubicBezTo>
                <a:cubicBezTo>
                  <a:pt x="14181" y="12534"/>
                  <a:pt x="14172" y="12613"/>
                  <a:pt x="14163" y="12675"/>
                </a:cubicBezTo>
                <a:cubicBezTo>
                  <a:pt x="14260" y="12675"/>
                  <a:pt x="14396" y="12609"/>
                  <a:pt x="14486" y="12650"/>
                </a:cubicBezTo>
                <a:cubicBezTo>
                  <a:pt x="14745" y="12768"/>
                  <a:pt x="14466" y="13003"/>
                  <a:pt x="14312" y="13022"/>
                </a:cubicBezTo>
                <a:cubicBezTo>
                  <a:pt x="14228" y="13002"/>
                  <a:pt x="14202" y="13007"/>
                  <a:pt x="14188" y="12948"/>
                </a:cubicBezTo>
              </a:path>
              <a:path w="11659" h="4813">
                <a:moveTo>
                  <a:pt x="14908" y="12849"/>
                </a:moveTo>
                <a:cubicBezTo>
                  <a:pt x="14908" y="12857"/>
                  <a:pt x="14908" y="12866"/>
                  <a:pt x="14908" y="12874"/>
                </a:cubicBezTo>
              </a:path>
              <a:path w="11659" h="4813">
                <a:moveTo>
                  <a:pt x="12923" y="13568"/>
                </a:moveTo>
                <a:cubicBezTo>
                  <a:pt x="13051" y="13568"/>
                  <a:pt x="13169" y="13535"/>
                  <a:pt x="13295" y="13519"/>
                </a:cubicBezTo>
                <a:cubicBezTo>
                  <a:pt x="13312" y="13519"/>
                  <a:pt x="13328" y="13519"/>
                  <a:pt x="13345" y="13519"/>
                </a:cubicBezTo>
              </a:path>
              <a:path w="11659" h="4813">
                <a:moveTo>
                  <a:pt x="14238" y="13295"/>
                </a:moveTo>
                <a:cubicBezTo>
                  <a:pt x="14322" y="13295"/>
                  <a:pt x="14376" y="13269"/>
                  <a:pt x="14461" y="13295"/>
                </a:cubicBezTo>
                <a:cubicBezTo>
                  <a:pt x="14642" y="13350"/>
                  <a:pt x="14386" y="13490"/>
                  <a:pt x="14337" y="13519"/>
                </a:cubicBezTo>
                <a:cubicBezTo>
                  <a:pt x="14400" y="13519"/>
                  <a:pt x="14532" y="13524"/>
                  <a:pt x="14560" y="13593"/>
                </a:cubicBezTo>
                <a:cubicBezTo>
                  <a:pt x="14640" y="13790"/>
                  <a:pt x="14402" y="13858"/>
                  <a:pt x="14263" y="13841"/>
                </a:cubicBezTo>
                <a:cubicBezTo>
                  <a:pt x="14240" y="13818"/>
                  <a:pt x="14232" y="13814"/>
                  <a:pt x="14238" y="13791"/>
                </a:cubicBezTo>
              </a:path>
              <a:path w="11659" h="4813">
                <a:moveTo>
                  <a:pt x="14982" y="13643"/>
                </a:moveTo>
                <a:cubicBezTo>
                  <a:pt x="14995" y="13692"/>
                  <a:pt x="15006" y="13692"/>
                  <a:pt x="15056" y="13692"/>
                </a:cubicBezTo>
                <a:cubicBezTo>
                  <a:pt x="15056" y="13667"/>
                  <a:pt x="15056" y="13659"/>
                  <a:pt x="15056" y="13643"/>
                </a:cubicBezTo>
              </a:path>
              <a:path w="11659" h="4813">
                <a:moveTo>
                  <a:pt x="15503" y="13196"/>
                </a:moveTo>
                <a:cubicBezTo>
                  <a:pt x="15487" y="13355"/>
                  <a:pt x="15494" y="13485"/>
                  <a:pt x="15503" y="13643"/>
                </a:cubicBezTo>
              </a:path>
              <a:path w="11659" h="4813">
                <a:moveTo>
                  <a:pt x="12948" y="14163"/>
                </a:moveTo>
                <a:cubicBezTo>
                  <a:pt x="13063" y="14114"/>
                  <a:pt x="13237" y="14099"/>
                  <a:pt x="13395" y="14089"/>
                </a:cubicBezTo>
                <a:cubicBezTo>
                  <a:pt x="14197" y="14037"/>
                  <a:pt x="14998" y="14042"/>
                  <a:pt x="15801" y="14015"/>
                </a:cubicBezTo>
                <a:cubicBezTo>
                  <a:pt x="16215" y="14001"/>
                  <a:pt x="16628" y="13976"/>
                  <a:pt x="17041" y="13965"/>
                </a:cubicBezTo>
              </a:path>
              <a:path w="11659" h="4813">
                <a:moveTo>
                  <a:pt x="15974" y="13246"/>
                </a:moveTo>
                <a:cubicBezTo>
                  <a:pt x="15892" y="13312"/>
                  <a:pt x="15772" y="13422"/>
                  <a:pt x="15776" y="13543"/>
                </a:cubicBezTo>
                <a:cubicBezTo>
                  <a:pt x="15792" y="13560"/>
                  <a:pt x="15809" y="13576"/>
                  <a:pt x="15825" y="13593"/>
                </a:cubicBezTo>
                <a:cubicBezTo>
                  <a:pt x="16033" y="13593"/>
                  <a:pt x="16213" y="13507"/>
                  <a:pt x="16173" y="13246"/>
                </a:cubicBezTo>
                <a:cubicBezTo>
                  <a:pt x="16121" y="13169"/>
                  <a:pt x="16102" y="13144"/>
                  <a:pt x="16024" y="13171"/>
                </a:cubicBezTo>
              </a:path>
              <a:path w="11659" h="4813">
                <a:moveTo>
                  <a:pt x="16297" y="14163"/>
                </a:moveTo>
                <a:cubicBezTo>
                  <a:pt x="16205" y="14186"/>
                  <a:pt x="16102" y="14240"/>
                  <a:pt x="15999" y="14263"/>
                </a:cubicBezTo>
                <a:cubicBezTo>
                  <a:pt x="15962" y="14271"/>
                  <a:pt x="15956" y="14369"/>
                  <a:pt x="15949" y="14412"/>
                </a:cubicBezTo>
                <a:cubicBezTo>
                  <a:pt x="15949" y="14436"/>
                  <a:pt x="15949" y="14445"/>
                  <a:pt x="15949" y="14461"/>
                </a:cubicBezTo>
                <a:cubicBezTo>
                  <a:pt x="16049" y="14428"/>
                  <a:pt x="16185" y="14362"/>
                  <a:pt x="16297" y="14436"/>
                </a:cubicBezTo>
                <a:cubicBezTo>
                  <a:pt x="16495" y="14567"/>
                  <a:pt x="16248" y="14734"/>
                  <a:pt x="16123" y="14759"/>
                </a:cubicBezTo>
                <a:cubicBezTo>
                  <a:pt x="15961" y="14759"/>
                  <a:pt x="15906" y="14747"/>
                  <a:pt x="15900" y="14585"/>
                </a:cubicBezTo>
              </a:path>
              <a:path w="11659" h="4813">
                <a:moveTo>
                  <a:pt x="14163" y="12278"/>
                </a:moveTo>
                <a:cubicBezTo>
                  <a:pt x="14163" y="12125"/>
                  <a:pt x="14273" y="12511"/>
                  <a:pt x="14337" y="12650"/>
                </a:cubicBezTo>
                <a:cubicBezTo>
                  <a:pt x="14384" y="12752"/>
                  <a:pt x="14511" y="12949"/>
                  <a:pt x="14511" y="13072"/>
                </a:cubicBezTo>
              </a:path>
              <a:path w="11659" h="4813">
                <a:moveTo>
                  <a:pt x="14263" y="11881"/>
                </a:moveTo>
                <a:cubicBezTo>
                  <a:pt x="14263" y="11857"/>
                  <a:pt x="14263" y="11849"/>
                  <a:pt x="14288" y="11857"/>
                </a:cubicBezTo>
                <a:cubicBezTo>
                  <a:pt x="14278" y="11926"/>
                  <a:pt x="14251" y="11990"/>
                  <a:pt x="14238" y="12055"/>
                </a:cubicBezTo>
                <a:cubicBezTo>
                  <a:pt x="14337" y="12055"/>
                  <a:pt x="14437" y="12055"/>
                  <a:pt x="14536" y="12055"/>
                </a:cubicBezTo>
              </a:path>
              <a:path w="11659" h="4813">
                <a:moveTo>
                  <a:pt x="14461" y="11708"/>
                </a:moveTo>
                <a:cubicBezTo>
                  <a:pt x="14461" y="11678"/>
                  <a:pt x="14444" y="12050"/>
                  <a:pt x="14436" y="12105"/>
                </a:cubicBezTo>
                <a:cubicBezTo>
                  <a:pt x="14420" y="12217"/>
                  <a:pt x="14405" y="12207"/>
                  <a:pt x="14387" y="12278"/>
                </a:cubicBezTo>
              </a:path>
              <a:path w="11659" h="4813">
                <a:moveTo>
                  <a:pt x="15131" y="12378"/>
                </a:moveTo>
                <a:cubicBezTo>
                  <a:pt x="15131" y="12353"/>
                  <a:pt x="15131" y="12345"/>
                  <a:pt x="15131" y="12328"/>
                </a:cubicBezTo>
                <a:cubicBezTo>
                  <a:pt x="15131" y="12435"/>
                  <a:pt x="15131" y="12543"/>
                  <a:pt x="15131" y="12650"/>
                </a:cubicBezTo>
              </a:path>
              <a:path w="11659" h="4813">
                <a:moveTo>
                  <a:pt x="15478" y="14461"/>
                </a:moveTo>
                <a:cubicBezTo>
                  <a:pt x="15478" y="14343"/>
                  <a:pt x="15413" y="14308"/>
                  <a:pt x="15329" y="14238"/>
                </a:cubicBezTo>
                <a:cubicBezTo>
                  <a:pt x="15123" y="14342"/>
                  <a:pt x="15087" y="14412"/>
                  <a:pt x="15205" y="14610"/>
                </a:cubicBezTo>
                <a:cubicBezTo>
                  <a:pt x="15378" y="14564"/>
                  <a:pt x="15391" y="14490"/>
                  <a:pt x="15453" y="14312"/>
                </a:cubicBezTo>
                <a:cubicBezTo>
                  <a:pt x="15453" y="14513"/>
                  <a:pt x="15443" y="14709"/>
                  <a:pt x="15429" y="14908"/>
                </a:cubicBezTo>
                <a:cubicBezTo>
                  <a:pt x="15421" y="15027"/>
                  <a:pt x="15429" y="14965"/>
                  <a:pt x="15404" y="14883"/>
                </a:cubicBezTo>
              </a:path>
              <a:path w="11659" h="4813">
                <a:moveTo>
                  <a:pt x="14883" y="15056"/>
                </a:moveTo>
                <a:cubicBezTo>
                  <a:pt x="14872" y="15024"/>
                  <a:pt x="14820" y="15008"/>
                  <a:pt x="14808" y="15056"/>
                </a:cubicBezTo>
                <a:cubicBezTo>
                  <a:pt x="14808" y="15064"/>
                  <a:pt x="14808" y="15073"/>
                  <a:pt x="14808" y="15081"/>
                </a:cubicBezTo>
                <a:cubicBezTo>
                  <a:pt x="14839" y="15081"/>
                  <a:pt x="14927" y="15029"/>
                  <a:pt x="14883" y="15007"/>
                </a:cubicBezTo>
              </a:path>
              <a:path w="11659" h="4813">
                <a:moveTo>
                  <a:pt x="14288" y="14486"/>
                </a:moveTo>
                <a:cubicBezTo>
                  <a:pt x="14314" y="14650"/>
                  <a:pt x="14312" y="14814"/>
                  <a:pt x="14312" y="14982"/>
                </a:cubicBezTo>
                <a:cubicBezTo>
                  <a:pt x="14312" y="15015"/>
                  <a:pt x="14312" y="15048"/>
                  <a:pt x="14312" y="15081"/>
                </a:cubicBezTo>
              </a:path>
              <a:path w="11659" h="4813">
                <a:moveTo>
                  <a:pt x="13742" y="13419"/>
                </a:moveTo>
                <a:cubicBezTo>
                  <a:pt x="13624" y="13478"/>
                  <a:pt x="13547" y="13630"/>
                  <a:pt x="13618" y="13767"/>
                </a:cubicBezTo>
                <a:cubicBezTo>
                  <a:pt x="13723" y="13971"/>
                  <a:pt x="13967" y="13687"/>
                  <a:pt x="13940" y="13543"/>
                </a:cubicBezTo>
                <a:cubicBezTo>
                  <a:pt x="13873" y="13431"/>
                  <a:pt x="13862" y="13393"/>
                  <a:pt x="13767" y="13395"/>
                </a:cubicBezTo>
              </a:path>
              <a:path w="11659" h="4813">
                <a:moveTo>
                  <a:pt x="13593" y="14486"/>
                </a:moveTo>
                <a:cubicBezTo>
                  <a:pt x="13643" y="14711"/>
                  <a:pt x="13643" y="14926"/>
                  <a:pt x="13643" y="15156"/>
                </a:cubicBezTo>
                <a:cubicBezTo>
                  <a:pt x="13643" y="15181"/>
                  <a:pt x="13643" y="15205"/>
                  <a:pt x="13643" y="15230"/>
                </a:cubicBezTo>
              </a:path>
              <a:path w="11659" h="4813">
                <a:moveTo>
                  <a:pt x="10988" y="13767"/>
                </a:moveTo>
                <a:cubicBezTo>
                  <a:pt x="11274" y="13919"/>
                  <a:pt x="11578" y="14052"/>
                  <a:pt x="11857" y="14213"/>
                </a:cubicBezTo>
                <a:cubicBezTo>
                  <a:pt x="12119" y="14365"/>
                  <a:pt x="12449" y="14560"/>
                  <a:pt x="12650" y="14784"/>
                </a:cubicBezTo>
                <a:cubicBezTo>
                  <a:pt x="12744" y="14845"/>
                  <a:pt x="12728" y="14857"/>
                  <a:pt x="12626" y="14759"/>
                </a:cubicBezTo>
                <a:cubicBezTo>
                  <a:pt x="12550" y="14686"/>
                  <a:pt x="12477" y="14610"/>
                  <a:pt x="12402" y="14536"/>
                </a:cubicBezTo>
                <a:cubicBezTo>
                  <a:pt x="12475" y="14586"/>
                  <a:pt x="12562" y="14640"/>
                  <a:pt x="12650" y="14684"/>
                </a:cubicBezTo>
                <a:cubicBezTo>
                  <a:pt x="12596" y="14684"/>
                  <a:pt x="12482" y="14654"/>
                  <a:pt x="12452" y="14709"/>
                </a:cubicBezTo>
                <a:cubicBezTo>
                  <a:pt x="12407" y="14790"/>
                  <a:pt x="12488" y="14795"/>
                  <a:pt x="12526" y="14833"/>
                </a:cubicBezTo>
                <a:cubicBezTo>
                  <a:pt x="12412" y="14646"/>
                  <a:pt x="12325" y="14646"/>
                  <a:pt x="12105" y="14536"/>
                </a:cubicBezTo>
              </a:path>
              <a:path w="11659" h="4813">
                <a:moveTo>
                  <a:pt x="11311" y="13866"/>
                </a:moveTo>
                <a:cubicBezTo>
                  <a:pt x="11261" y="13841"/>
                  <a:pt x="11212" y="13816"/>
                  <a:pt x="11162" y="13791"/>
                </a:cubicBezTo>
                <a:cubicBezTo>
                  <a:pt x="11133" y="13893"/>
                  <a:pt x="11192" y="14005"/>
                  <a:pt x="11237" y="14114"/>
                </a:cubicBezTo>
                <a:cubicBezTo>
                  <a:pt x="11102" y="14075"/>
                  <a:pt x="11071" y="13901"/>
                  <a:pt x="10988" y="13791"/>
                </a:cubicBezTo>
                <a:cubicBezTo>
                  <a:pt x="10980" y="13791"/>
                  <a:pt x="10972" y="13791"/>
                  <a:pt x="10964" y="13791"/>
                </a:cubicBezTo>
                <a:cubicBezTo>
                  <a:pt x="11161" y="13805"/>
                  <a:pt x="11322" y="13847"/>
                  <a:pt x="11485" y="13692"/>
                </a:cubicBezTo>
                <a:cubicBezTo>
                  <a:pt x="11539" y="13602"/>
                  <a:pt x="11563" y="13601"/>
                  <a:pt x="11559" y="13543"/>
                </a:cubicBezTo>
              </a:path>
              <a:path w="11659" h="4813">
                <a:moveTo>
                  <a:pt x="10988" y="15751"/>
                </a:moveTo>
                <a:cubicBezTo>
                  <a:pt x="11029" y="15852"/>
                  <a:pt x="11069" y="15945"/>
                  <a:pt x="11088" y="16049"/>
                </a:cubicBezTo>
                <a:cubicBezTo>
                  <a:pt x="11211" y="15820"/>
                  <a:pt x="11364" y="15445"/>
                  <a:pt x="11584" y="15255"/>
                </a:cubicBezTo>
                <a:cubicBezTo>
                  <a:pt x="11667" y="15214"/>
                  <a:pt x="11749" y="15172"/>
                  <a:pt x="11832" y="151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1800" y="4464000"/>
            <a:ext cx="3448080" cy="1152720"/>
          </a:xfrm>
          <a:custGeom>
            <a:avLst/>
            <a:gdLst/>
            <a:ahLst/>
            <a:rect l="l" t="t" r="r" b="b"/>
            <a:pathLst>
              <a:path w="9576" h="3201">
                <a:moveTo>
                  <a:pt x="2505" y="15056"/>
                </a:moveTo>
                <a:cubicBezTo>
                  <a:pt x="2562" y="15073"/>
                  <a:pt x="2558" y="15131"/>
                  <a:pt x="2679" y="15131"/>
                </a:cubicBezTo>
                <a:cubicBezTo>
                  <a:pt x="2964" y="15131"/>
                  <a:pt x="3257" y="15081"/>
                  <a:pt x="3547" y="15081"/>
                </a:cubicBezTo>
                <a:cubicBezTo>
                  <a:pt x="3829" y="15081"/>
                  <a:pt x="4107" y="15106"/>
                  <a:pt x="4390" y="15106"/>
                </a:cubicBezTo>
                <a:cubicBezTo>
                  <a:pt x="4852" y="15106"/>
                  <a:pt x="5275" y="15138"/>
                  <a:pt x="5730" y="15205"/>
                </a:cubicBezTo>
                <a:cubicBezTo>
                  <a:pt x="5878" y="15227"/>
                  <a:pt x="6027" y="15220"/>
                  <a:pt x="6176" y="15230"/>
                </a:cubicBezTo>
                <a:cubicBezTo>
                  <a:pt x="6380" y="15244"/>
                  <a:pt x="6590" y="15284"/>
                  <a:pt x="6796" y="15280"/>
                </a:cubicBezTo>
                <a:cubicBezTo>
                  <a:pt x="6972" y="15276"/>
                  <a:pt x="7143" y="15248"/>
                  <a:pt x="7317" y="15230"/>
                </a:cubicBezTo>
                <a:cubicBezTo>
                  <a:pt x="7456" y="15215"/>
                  <a:pt x="7603" y="15209"/>
                  <a:pt x="7739" y="15180"/>
                </a:cubicBezTo>
                <a:cubicBezTo>
                  <a:pt x="7864" y="15154"/>
                  <a:pt x="7984" y="15116"/>
                  <a:pt x="8111" y="15106"/>
                </a:cubicBezTo>
                <a:cubicBezTo>
                  <a:pt x="8351" y="15086"/>
                  <a:pt x="8590" y="15081"/>
                  <a:pt x="8830" y="15056"/>
                </a:cubicBezTo>
                <a:cubicBezTo>
                  <a:pt x="9114" y="15027"/>
                  <a:pt x="9389" y="15024"/>
                  <a:pt x="9674" y="15007"/>
                </a:cubicBezTo>
                <a:cubicBezTo>
                  <a:pt x="10022" y="14987"/>
                  <a:pt x="10366" y="14982"/>
                  <a:pt x="10716" y="14982"/>
                </a:cubicBezTo>
                <a:cubicBezTo>
                  <a:pt x="11131" y="14982"/>
                  <a:pt x="11543" y="14985"/>
                  <a:pt x="11956" y="15007"/>
                </a:cubicBezTo>
                <a:cubicBezTo>
                  <a:pt x="12030" y="15007"/>
                  <a:pt x="12039" y="15007"/>
                  <a:pt x="12080" y="15007"/>
                </a:cubicBezTo>
              </a:path>
              <a:path w="9576" h="3201">
                <a:moveTo>
                  <a:pt x="6176" y="15503"/>
                </a:moveTo>
                <a:cubicBezTo>
                  <a:pt x="6132" y="15526"/>
                  <a:pt x="6127" y="15549"/>
                  <a:pt x="6127" y="15602"/>
                </a:cubicBezTo>
                <a:cubicBezTo>
                  <a:pt x="6232" y="15595"/>
                  <a:pt x="6297" y="15614"/>
                  <a:pt x="6325" y="15503"/>
                </a:cubicBezTo>
                <a:cubicBezTo>
                  <a:pt x="6325" y="15495"/>
                  <a:pt x="6325" y="15486"/>
                  <a:pt x="6325" y="15478"/>
                </a:cubicBezTo>
                <a:cubicBezTo>
                  <a:pt x="6245" y="15432"/>
                  <a:pt x="6242" y="15442"/>
                  <a:pt x="6152" y="15453"/>
                </a:cubicBezTo>
              </a:path>
              <a:path w="9576" h="3201">
                <a:moveTo>
                  <a:pt x="8607" y="12402"/>
                </a:moveTo>
                <a:cubicBezTo>
                  <a:pt x="8607" y="12554"/>
                  <a:pt x="8624" y="12698"/>
                  <a:pt x="8632" y="128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473800" y="4419720"/>
            <a:ext cx="349200" cy="233280"/>
          </a:xfrm>
          <a:custGeom>
            <a:avLst/>
            <a:gdLst/>
            <a:ahLst/>
            <a:rect l="l" t="t" r="r" b="b"/>
            <a:pathLst>
              <a:path w="969" h="646">
                <a:moveTo>
                  <a:pt x="15404" y="12378"/>
                </a:moveTo>
                <a:cubicBezTo>
                  <a:pt x="15276" y="12490"/>
                  <a:pt x="15161" y="12665"/>
                  <a:pt x="15230" y="12849"/>
                </a:cubicBezTo>
                <a:cubicBezTo>
                  <a:pt x="15328" y="13111"/>
                  <a:pt x="15585" y="12770"/>
                  <a:pt x="15577" y="12626"/>
                </a:cubicBezTo>
                <a:cubicBezTo>
                  <a:pt x="15569" y="12480"/>
                  <a:pt x="15482" y="12425"/>
                  <a:pt x="15379" y="12353"/>
                </a:cubicBezTo>
              </a:path>
              <a:path w="969" h="646">
                <a:moveTo>
                  <a:pt x="16049" y="12278"/>
                </a:moveTo>
                <a:cubicBezTo>
                  <a:pt x="15963" y="12278"/>
                  <a:pt x="15885" y="12312"/>
                  <a:pt x="15801" y="12328"/>
                </a:cubicBezTo>
                <a:cubicBezTo>
                  <a:pt x="15758" y="12336"/>
                  <a:pt x="15766" y="12457"/>
                  <a:pt x="15751" y="12502"/>
                </a:cubicBezTo>
                <a:cubicBezTo>
                  <a:pt x="15731" y="12542"/>
                  <a:pt x="15722" y="12548"/>
                  <a:pt x="15726" y="12576"/>
                </a:cubicBezTo>
                <a:cubicBezTo>
                  <a:pt x="15806" y="12576"/>
                  <a:pt x="15863" y="12534"/>
                  <a:pt x="15949" y="12526"/>
                </a:cubicBezTo>
                <a:cubicBezTo>
                  <a:pt x="16074" y="12514"/>
                  <a:pt x="16275" y="12598"/>
                  <a:pt x="16123" y="12750"/>
                </a:cubicBezTo>
                <a:cubicBezTo>
                  <a:pt x="16035" y="12838"/>
                  <a:pt x="15925" y="12795"/>
                  <a:pt x="15825" y="127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89040" y="5160960"/>
            <a:ext cx="117360" cy="135000"/>
          </a:xfrm>
          <a:custGeom>
            <a:avLst/>
            <a:gdLst/>
            <a:ahLst/>
            <a:rect l="l" t="t" r="r" b="b"/>
            <a:pathLst>
              <a:path w="324" h="373">
                <a:moveTo>
                  <a:pt x="4614" y="14436"/>
                </a:moveTo>
                <a:cubicBezTo>
                  <a:pt x="4614" y="14403"/>
                  <a:pt x="4614" y="14370"/>
                  <a:pt x="4614" y="14337"/>
                </a:cubicBezTo>
                <a:cubicBezTo>
                  <a:pt x="4614" y="14454"/>
                  <a:pt x="4632" y="14567"/>
                  <a:pt x="4638" y="14684"/>
                </a:cubicBezTo>
                <a:cubicBezTo>
                  <a:pt x="4638" y="14692"/>
                  <a:pt x="4638" y="14701"/>
                  <a:pt x="4638" y="14709"/>
                </a:cubicBezTo>
              </a:path>
              <a:path w="324" h="373">
                <a:moveTo>
                  <a:pt x="4415" y="14585"/>
                </a:moveTo>
                <a:cubicBezTo>
                  <a:pt x="4515" y="14565"/>
                  <a:pt x="4607" y="14541"/>
                  <a:pt x="4713" y="14536"/>
                </a:cubicBezTo>
                <a:cubicBezTo>
                  <a:pt x="4721" y="14536"/>
                  <a:pt x="4730" y="14536"/>
                  <a:pt x="4738" y="145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11240" y="5133960"/>
            <a:ext cx="384120" cy="216000"/>
          </a:xfrm>
          <a:custGeom>
            <a:avLst/>
            <a:gdLst/>
            <a:ahLst/>
            <a:rect l="l" t="t" r="r" b="b"/>
            <a:pathLst>
              <a:path w="1068" h="596">
                <a:moveTo>
                  <a:pt x="5308" y="14412"/>
                </a:moveTo>
                <a:cubicBezTo>
                  <a:pt x="5324" y="14365"/>
                  <a:pt x="5423" y="14310"/>
                  <a:pt x="5482" y="14288"/>
                </a:cubicBezTo>
                <a:cubicBezTo>
                  <a:pt x="5515" y="14280"/>
                  <a:pt x="5548" y="14271"/>
                  <a:pt x="5581" y="14263"/>
                </a:cubicBezTo>
                <a:cubicBezTo>
                  <a:pt x="5591" y="14414"/>
                  <a:pt x="5583" y="14416"/>
                  <a:pt x="5482" y="14536"/>
                </a:cubicBezTo>
                <a:cubicBezTo>
                  <a:pt x="5561" y="14496"/>
                  <a:pt x="5696" y="14493"/>
                  <a:pt x="5730" y="14610"/>
                </a:cubicBezTo>
                <a:cubicBezTo>
                  <a:pt x="5792" y="14827"/>
                  <a:pt x="5524" y="14849"/>
                  <a:pt x="5383" y="14858"/>
                </a:cubicBezTo>
                <a:cubicBezTo>
                  <a:pt x="5341" y="14858"/>
                  <a:pt x="5325" y="14866"/>
                  <a:pt x="5333" y="14833"/>
                </a:cubicBezTo>
              </a:path>
              <a:path w="1068" h="596">
                <a:moveTo>
                  <a:pt x="5978" y="14808"/>
                </a:moveTo>
                <a:cubicBezTo>
                  <a:pt x="5978" y="14841"/>
                  <a:pt x="5978" y="14841"/>
                  <a:pt x="5978" y="14784"/>
                </a:cubicBezTo>
              </a:path>
              <a:path w="1068" h="596">
                <a:moveTo>
                  <a:pt x="6325" y="14288"/>
                </a:moveTo>
                <a:cubicBezTo>
                  <a:pt x="6325" y="14180"/>
                  <a:pt x="6334" y="14453"/>
                  <a:pt x="6350" y="14560"/>
                </a:cubicBezTo>
                <a:cubicBezTo>
                  <a:pt x="6365" y="14657"/>
                  <a:pt x="6375" y="14737"/>
                  <a:pt x="6375" y="14833"/>
                </a:cubicBezTo>
                <a:cubicBezTo>
                  <a:pt x="6375" y="14841"/>
                  <a:pt x="6375" y="14850"/>
                  <a:pt x="6375" y="14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30280" y="3517920"/>
            <a:ext cx="482760" cy="214200"/>
          </a:xfrm>
          <a:custGeom>
            <a:avLst/>
            <a:gdLst/>
            <a:ahLst/>
            <a:rect l="l" t="t" r="r" b="b"/>
            <a:pathLst>
              <a:path w="1340" h="596">
                <a:moveTo>
                  <a:pt x="6697" y="9798"/>
                </a:moveTo>
                <a:cubicBezTo>
                  <a:pt x="6625" y="9822"/>
                  <a:pt x="6691" y="9959"/>
                  <a:pt x="6697" y="10021"/>
                </a:cubicBezTo>
                <a:cubicBezTo>
                  <a:pt x="6697" y="10046"/>
                  <a:pt x="6697" y="10071"/>
                  <a:pt x="6697" y="10096"/>
                </a:cubicBezTo>
              </a:path>
              <a:path w="1340" h="596">
                <a:moveTo>
                  <a:pt x="6474" y="10021"/>
                </a:moveTo>
                <a:cubicBezTo>
                  <a:pt x="6609" y="9976"/>
                  <a:pt x="6755" y="9936"/>
                  <a:pt x="6896" y="9922"/>
                </a:cubicBezTo>
                <a:cubicBezTo>
                  <a:pt x="6904" y="9922"/>
                  <a:pt x="6913" y="9922"/>
                  <a:pt x="6921" y="9922"/>
                </a:cubicBezTo>
              </a:path>
              <a:path w="1340" h="596">
                <a:moveTo>
                  <a:pt x="7665" y="9823"/>
                </a:moveTo>
                <a:cubicBezTo>
                  <a:pt x="7652" y="9783"/>
                  <a:pt x="7518" y="9781"/>
                  <a:pt x="7466" y="9773"/>
                </a:cubicBezTo>
                <a:cubicBezTo>
                  <a:pt x="7441" y="9773"/>
                  <a:pt x="7433" y="9773"/>
                  <a:pt x="7417" y="9773"/>
                </a:cubicBezTo>
                <a:cubicBezTo>
                  <a:pt x="7395" y="9844"/>
                  <a:pt x="7318" y="10000"/>
                  <a:pt x="7342" y="10071"/>
                </a:cubicBezTo>
                <a:cubicBezTo>
                  <a:pt x="7350" y="10079"/>
                  <a:pt x="7359" y="10088"/>
                  <a:pt x="7367" y="10096"/>
                </a:cubicBezTo>
                <a:cubicBezTo>
                  <a:pt x="7450" y="10063"/>
                  <a:pt x="7556" y="9979"/>
                  <a:pt x="7665" y="9996"/>
                </a:cubicBezTo>
                <a:cubicBezTo>
                  <a:pt x="7860" y="10026"/>
                  <a:pt x="7835" y="10242"/>
                  <a:pt x="7689" y="10319"/>
                </a:cubicBezTo>
                <a:cubicBezTo>
                  <a:pt x="7631" y="10350"/>
                  <a:pt x="7510" y="10361"/>
                  <a:pt x="7441" y="103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8880" y="3544920"/>
            <a:ext cx="2759040" cy="669960"/>
          </a:xfrm>
          <a:custGeom>
            <a:avLst/>
            <a:gdLst/>
            <a:ahLst/>
            <a:rect l="l" t="t" r="r" b="b"/>
            <a:pathLst>
              <a:path w="7666" h="1862">
                <a:moveTo>
                  <a:pt x="2108" y="10716"/>
                </a:moveTo>
                <a:cubicBezTo>
                  <a:pt x="2679" y="10716"/>
                  <a:pt x="3250" y="10685"/>
                  <a:pt x="3820" y="10666"/>
                </a:cubicBezTo>
                <a:cubicBezTo>
                  <a:pt x="4521" y="10642"/>
                  <a:pt x="5227" y="10600"/>
                  <a:pt x="5928" y="10616"/>
                </a:cubicBezTo>
                <a:cubicBezTo>
                  <a:pt x="6540" y="10630"/>
                  <a:pt x="7152" y="10660"/>
                  <a:pt x="7764" y="10666"/>
                </a:cubicBezTo>
                <a:cubicBezTo>
                  <a:pt x="8207" y="10670"/>
                  <a:pt x="8663" y="10701"/>
                  <a:pt x="9103" y="10691"/>
                </a:cubicBezTo>
                <a:cubicBezTo>
                  <a:pt x="9332" y="10686"/>
                  <a:pt x="9552" y="10671"/>
                  <a:pt x="9773" y="10691"/>
                </a:cubicBezTo>
              </a:path>
              <a:path w="7666" h="1862">
                <a:moveTo>
                  <a:pt x="7863" y="10864"/>
                </a:moveTo>
                <a:cubicBezTo>
                  <a:pt x="7825" y="10855"/>
                  <a:pt x="7787" y="10821"/>
                  <a:pt x="7739" y="10840"/>
                </a:cubicBezTo>
                <a:cubicBezTo>
                  <a:pt x="7637" y="10881"/>
                  <a:pt x="7584" y="11152"/>
                  <a:pt x="7739" y="11137"/>
                </a:cubicBezTo>
                <a:cubicBezTo>
                  <a:pt x="8000" y="11111"/>
                  <a:pt x="8034" y="10917"/>
                  <a:pt x="7813" y="10840"/>
                </a:cubicBezTo>
              </a:path>
              <a:path w="7666" h="1862">
                <a:moveTo>
                  <a:pt x="2828" y="9947"/>
                </a:moveTo>
                <a:cubicBezTo>
                  <a:pt x="2859" y="9884"/>
                  <a:pt x="2898" y="10090"/>
                  <a:pt x="2902" y="10120"/>
                </a:cubicBezTo>
                <a:cubicBezTo>
                  <a:pt x="2914" y="10211"/>
                  <a:pt x="2914" y="10204"/>
                  <a:pt x="2853" y="10244"/>
                </a:cubicBezTo>
              </a:path>
              <a:path w="7666" h="1862">
                <a:moveTo>
                  <a:pt x="2729" y="10170"/>
                </a:moveTo>
                <a:cubicBezTo>
                  <a:pt x="2817" y="10125"/>
                  <a:pt x="2904" y="10139"/>
                  <a:pt x="3001" y="10145"/>
                </a:cubicBezTo>
                <a:cubicBezTo>
                  <a:pt x="3034" y="10145"/>
                  <a:pt x="3068" y="10145"/>
                  <a:pt x="3101" y="10145"/>
                </a:cubicBezTo>
              </a:path>
              <a:path w="7666" h="1862">
                <a:moveTo>
                  <a:pt x="3894" y="9872"/>
                </a:moveTo>
                <a:cubicBezTo>
                  <a:pt x="3845" y="9853"/>
                  <a:pt x="3742" y="9814"/>
                  <a:pt x="3696" y="9872"/>
                </a:cubicBezTo>
                <a:cubicBezTo>
                  <a:pt x="3633" y="9951"/>
                  <a:pt x="3646" y="10004"/>
                  <a:pt x="3646" y="10096"/>
                </a:cubicBezTo>
                <a:cubicBezTo>
                  <a:pt x="3707" y="10081"/>
                  <a:pt x="3768" y="10020"/>
                  <a:pt x="3845" y="10046"/>
                </a:cubicBezTo>
                <a:cubicBezTo>
                  <a:pt x="3934" y="10076"/>
                  <a:pt x="3999" y="10205"/>
                  <a:pt x="3894" y="10269"/>
                </a:cubicBezTo>
                <a:cubicBezTo>
                  <a:pt x="3830" y="10308"/>
                  <a:pt x="3736" y="10306"/>
                  <a:pt x="3671" y="10344"/>
                </a:cubicBezTo>
              </a:path>
              <a:path w="7666" h="1862">
                <a:moveTo>
                  <a:pt x="3225" y="11038"/>
                </a:moveTo>
                <a:cubicBezTo>
                  <a:pt x="3225" y="11245"/>
                  <a:pt x="3225" y="11451"/>
                  <a:pt x="3225" y="11658"/>
                </a:cubicBezTo>
              </a:path>
              <a:path w="7666" h="1862">
                <a:moveTo>
                  <a:pt x="3944" y="10964"/>
                </a:moveTo>
                <a:cubicBezTo>
                  <a:pt x="3820" y="10999"/>
                  <a:pt x="3695" y="11103"/>
                  <a:pt x="3621" y="11212"/>
                </a:cubicBezTo>
                <a:cubicBezTo>
                  <a:pt x="3613" y="11237"/>
                  <a:pt x="3605" y="11261"/>
                  <a:pt x="3597" y="11286"/>
                </a:cubicBezTo>
                <a:cubicBezTo>
                  <a:pt x="3693" y="11369"/>
                  <a:pt x="3903" y="11455"/>
                  <a:pt x="3944" y="11584"/>
                </a:cubicBezTo>
                <a:cubicBezTo>
                  <a:pt x="3986" y="11718"/>
                  <a:pt x="3905" y="11700"/>
                  <a:pt x="3820" y="11708"/>
                </a:cubicBezTo>
                <a:cubicBezTo>
                  <a:pt x="3725" y="11535"/>
                  <a:pt x="3819" y="11420"/>
                  <a:pt x="3894" y="11237"/>
                </a:cubicBezTo>
                <a:cubicBezTo>
                  <a:pt x="3940" y="11124"/>
                  <a:pt x="4009" y="11062"/>
                  <a:pt x="3919" y="110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14680" y="4000680"/>
            <a:ext cx="98280" cy="107640"/>
          </a:xfrm>
          <a:custGeom>
            <a:avLst/>
            <a:gdLst/>
            <a:ahLst/>
            <a:rect l="l" t="t" r="r" b="b"/>
            <a:pathLst>
              <a:path w="274" h="299">
                <a:moveTo>
                  <a:pt x="4762" y="11187"/>
                </a:moveTo>
                <a:cubicBezTo>
                  <a:pt x="4814" y="11170"/>
                  <a:pt x="4903" y="11125"/>
                  <a:pt x="4986" y="11112"/>
                </a:cubicBezTo>
                <a:cubicBezTo>
                  <a:pt x="5072" y="11099"/>
                  <a:pt x="5027" y="11155"/>
                  <a:pt x="5011" y="11212"/>
                </a:cubicBezTo>
              </a:path>
              <a:path w="274" h="299">
                <a:moveTo>
                  <a:pt x="4762" y="11410"/>
                </a:moveTo>
                <a:cubicBezTo>
                  <a:pt x="4852" y="11410"/>
                  <a:pt x="4925" y="11380"/>
                  <a:pt x="5011" y="11361"/>
                </a:cubicBezTo>
                <a:cubicBezTo>
                  <a:pt x="5019" y="11361"/>
                  <a:pt x="5027" y="11361"/>
                  <a:pt x="5035" y="113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35080" y="3973680"/>
            <a:ext cx="216000" cy="223560"/>
          </a:xfrm>
          <a:custGeom>
            <a:avLst/>
            <a:gdLst/>
            <a:ahLst/>
            <a:rect l="l" t="t" r="r" b="b"/>
            <a:pathLst>
              <a:path w="597" h="621">
                <a:moveTo>
                  <a:pt x="5655" y="11038"/>
                </a:moveTo>
                <a:cubicBezTo>
                  <a:pt x="5661" y="11182"/>
                  <a:pt x="5657" y="11358"/>
                  <a:pt x="5705" y="11485"/>
                </a:cubicBezTo>
                <a:cubicBezTo>
                  <a:pt x="5688" y="11349"/>
                  <a:pt x="5677" y="11188"/>
                  <a:pt x="5755" y="11063"/>
                </a:cubicBezTo>
                <a:cubicBezTo>
                  <a:pt x="5810" y="11035"/>
                  <a:pt x="5833" y="11027"/>
                  <a:pt x="5879" y="11038"/>
                </a:cubicBezTo>
                <a:cubicBezTo>
                  <a:pt x="5987" y="11176"/>
                  <a:pt x="6057" y="11322"/>
                  <a:pt x="6028" y="11509"/>
                </a:cubicBezTo>
                <a:cubicBezTo>
                  <a:pt x="6016" y="11585"/>
                  <a:pt x="5913" y="11458"/>
                  <a:pt x="5854" y="11410"/>
                </a:cubicBezTo>
              </a:path>
              <a:path w="597" h="621">
                <a:moveTo>
                  <a:pt x="5879" y="11286"/>
                </a:moveTo>
                <a:cubicBezTo>
                  <a:pt x="5941" y="11302"/>
                  <a:pt x="5973" y="11344"/>
                  <a:pt x="5978" y="11410"/>
                </a:cubicBezTo>
                <a:cubicBezTo>
                  <a:pt x="5985" y="11511"/>
                  <a:pt x="5929" y="11633"/>
                  <a:pt x="6052" y="11658"/>
                </a:cubicBezTo>
                <a:cubicBezTo>
                  <a:pt x="6155" y="11658"/>
                  <a:pt x="6192" y="11656"/>
                  <a:pt x="6251" y="116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89640" y="3133800"/>
            <a:ext cx="260280" cy="696960"/>
          </a:xfrm>
          <a:custGeom>
            <a:avLst/>
            <a:gdLst/>
            <a:ahLst/>
            <a:rect l="l" t="t" r="r" b="b"/>
            <a:pathLst>
              <a:path w="720" h="1936">
                <a:moveTo>
                  <a:pt x="12774" y="8706"/>
                </a:moveTo>
                <a:lnTo>
                  <a:pt x="12774" y="8706"/>
                </a:lnTo>
              </a:path>
              <a:path w="720" h="1936">
                <a:moveTo>
                  <a:pt x="12750" y="8706"/>
                </a:moveTo>
                <a:lnTo>
                  <a:pt x="12750" y="8706"/>
                </a:lnTo>
              </a:path>
              <a:path w="720" h="1936">
                <a:moveTo>
                  <a:pt x="12750" y="8731"/>
                </a:moveTo>
                <a:lnTo>
                  <a:pt x="12750" y="8731"/>
                </a:lnTo>
              </a:path>
              <a:path w="720" h="1936">
                <a:moveTo>
                  <a:pt x="13469" y="10641"/>
                </a:moveTo>
                <a:lnTo>
                  <a:pt x="13469" y="10641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52800" y="5295960"/>
            <a:ext cx="9360" cy="17280"/>
          </a:xfrm>
          <a:custGeom>
            <a:avLst/>
            <a:gdLst/>
            <a:ahLst/>
            <a:rect l="l" t="t" r="r" b="b"/>
            <a:pathLst>
              <a:path w="26" h="51">
                <a:moveTo>
                  <a:pt x="5978" y="14709"/>
                </a:moveTo>
                <a:cubicBezTo>
                  <a:pt x="6003" y="14709"/>
                  <a:pt x="6011" y="14709"/>
                  <a:pt x="6003" y="14734"/>
                </a:cubicBezTo>
              </a:path>
              <a:path w="26" h="51">
                <a:moveTo>
                  <a:pt x="6003" y="14759"/>
                </a:moveTo>
                <a:lnTo>
                  <a:pt x="6003" y="14759"/>
                </a:lnTo>
              </a:path>
              <a:path w="26" h="51">
                <a:moveTo>
                  <a:pt x="6003" y="14759"/>
                </a:moveTo>
                <a:lnTo>
                  <a:pt x="6003" y="1475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3960" y="2089080"/>
            <a:ext cx="2401920" cy="189000"/>
          </a:xfrm>
          <a:custGeom>
            <a:avLst/>
            <a:gdLst/>
            <a:ahLst/>
            <a:rect l="l" t="t" r="r" b="b"/>
            <a:pathLst>
              <a:path w="6674" h="522">
                <a:moveTo>
                  <a:pt x="2009" y="6325"/>
                </a:moveTo>
                <a:cubicBezTo>
                  <a:pt x="2413" y="6267"/>
                  <a:pt x="2817" y="6270"/>
                  <a:pt x="3225" y="6251"/>
                </a:cubicBezTo>
                <a:cubicBezTo>
                  <a:pt x="4694" y="6184"/>
                  <a:pt x="6150" y="6076"/>
                  <a:pt x="7615" y="5953"/>
                </a:cubicBezTo>
                <a:cubicBezTo>
                  <a:pt x="7955" y="5925"/>
                  <a:pt x="8300" y="5902"/>
                  <a:pt x="8632" y="5829"/>
                </a:cubicBezTo>
                <a:cubicBezTo>
                  <a:pt x="8696" y="5815"/>
                  <a:pt x="8620" y="5821"/>
                  <a:pt x="8682" y="58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99000" y="3205080"/>
            <a:ext cx="27000" cy="117720"/>
          </a:xfrm>
          <a:custGeom>
            <a:avLst/>
            <a:gdLst/>
            <a:ahLst/>
            <a:rect l="l" t="t" r="r" b="b"/>
            <a:pathLst>
              <a:path w="76" h="323">
                <a:moveTo>
                  <a:pt x="12774" y="8905"/>
                </a:moveTo>
                <a:cubicBezTo>
                  <a:pt x="12791" y="9013"/>
                  <a:pt x="12738" y="9160"/>
                  <a:pt x="12824" y="9227"/>
                </a:cubicBezTo>
                <a:cubicBezTo>
                  <a:pt x="12832" y="9227"/>
                  <a:pt x="12841" y="9227"/>
                  <a:pt x="12849" y="92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59200" y="3098880"/>
            <a:ext cx="108000" cy="241200"/>
          </a:xfrm>
          <a:custGeom>
            <a:avLst/>
            <a:gdLst/>
            <a:ahLst/>
            <a:rect l="l" t="t" r="r" b="b"/>
            <a:pathLst>
              <a:path w="299" h="671">
                <a:moveTo>
                  <a:pt x="13444" y="8607"/>
                </a:moveTo>
                <a:cubicBezTo>
                  <a:pt x="13310" y="8683"/>
                  <a:pt x="13283" y="8697"/>
                  <a:pt x="13221" y="8830"/>
                </a:cubicBezTo>
                <a:cubicBezTo>
                  <a:pt x="13298" y="8903"/>
                  <a:pt x="13584" y="9084"/>
                  <a:pt x="13494" y="9227"/>
                </a:cubicBezTo>
                <a:cubicBezTo>
                  <a:pt x="13461" y="9244"/>
                  <a:pt x="13428" y="9260"/>
                  <a:pt x="13395" y="9277"/>
                </a:cubicBezTo>
                <a:cubicBezTo>
                  <a:pt x="13281" y="9106"/>
                  <a:pt x="13416" y="8944"/>
                  <a:pt x="13494" y="8756"/>
                </a:cubicBezTo>
                <a:cubicBezTo>
                  <a:pt x="13513" y="8699"/>
                  <a:pt x="13539" y="8674"/>
                  <a:pt x="13494" y="86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11800" y="3527280"/>
            <a:ext cx="142560" cy="17640"/>
          </a:xfrm>
          <a:custGeom>
            <a:avLst/>
            <a:gdLst/>
            <a:ahLst/>
            <a:rect l="l" t="t" r="r" b="b"/>
            <a:pathLst>
              <a:path w="397" h="50">
                <a:moveTo>
                  <a:pt x="12254" y="9847"/>
                </a:moveTo>
                <a:cubicBezTo>
                  <a:pt x="12349" y="9824"/>
                  <a:pt x="12469" y="9807"/>
                  <a:pt x="12576" y="9798"/>
                </a:cubicBezTo>
                <a:cubicBezTo>
                  <a:pt x="12601" y="9798"/>
                  <a:pt x="12625" y="9798"/>
                  <a:pt x="12650" y="97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776840" y="3463920"/>
            <a:ext cx="135000" cy="206280"/>
          </a:xfrm>
          <a:custGeom>
            <a:avLst/>
            <a:gdLst/>
            <a:ahLst/>
            <a:rect l="l" t="t" r="r" b="b"/>
            <a:pathLst>
              <a:path w="373" h="572">
                <a:moveTo>
                  <a:pt x="13519" y="9624"/>
                </a:moveTo>
                <a:cubicBezTo>
                  <a:pt x="13385" y="9624"/>
                  <a:pt x="13320" y="9575"/>
                  <a:pt x="13295" y="9699"/>
                </a:cubicBezTo>
                <a:cubicBezTo>
                  <a:pt x="13280" y="9775"/>
                  <a:pt x="13271" y="9822"/>
                  <a:pt x="13271" y="9897"/>
                </a:cubicBezTo>
                <a:cubicBezTo>
                  <a:pt x="13345" y="9878"/>
                  <a:pt x="13401" y="9823"/>
                  <a:pt x="13494" y="9847"/>
                </a:cubicBezTo>
                <a:cubicBezTo>
                  <a:pt x="13705" y="9902"/>
                  <a:pt x="13648" y="10088"/>
                  <a:pt x="13494" y="10170"/>
                </a:cubicBezTo>
                <a:cubicBezTo>
                  <a:pt x="13396" y="10195"/>
                  <a:pt x="13363" y="10203"/>
                  <a:pt x="13295" y="101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19720" y="3705120"/>
            <a:ext cx="590400" cy="36720"/>
          </a:xfrm>
          <a:custGeom>
            <a:avLst/>
            <a:gdLst/>
            <a:ahLst/>
            <a:rect l="l" t="t" r="r" b="b"/>
            <a:pathLst>
              <a:path w="1638" h="100">
                <a:moveTo>
                  <a:pt x="12278" y="10393"/>
                </a:moveTo>
                <a:cubicBezTo>
                  <a:pt x="12569" y="10372"/>
                  <a:pt x="12853" y="10347"/>
                  <a:pt x="13146" y="10344"/>
                </a:cubicBezTo>
                <a:cubicBezTo>
                  <a:pt x="13399" y="10342"/>
                  <a:pt x="13641" y="10309"/>
                  <a:pt x="13891" y="10294"/>
                </a:cubicBezTo>
                <a:cubicBezTo>
                  <a:pt x="13899" y="10294"/>
                  <a:pt x="13907" y="10294"/>
                  <a:pt x="13915" y="102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03840" y="3795840"/>
            <a:ext cx="117360" cy="241200"/>
          </a:xfrm>
          <a:custGeom>
            <a:avLst/>
            <a:gdLst/>
            <a:ahLst/>
            <a:rect l="l" t="t" r="r" b="b"/>
            <a:pathLst>
              <a:path w="323" h="671">
                <a:moveTo>
                  <a:pt x="13469" y="10691"/>
                </a:moveTo>
                <a:cubicBezTo>
                  <a:pt x="13432" y="10642"/>
                  <a:pt x="13428" y="10620"/>
                  <a:pt x="13494" y="10592"/>
                </a:cubicBezTo>
                <a:cubicBezTo>
                  <a:pt x="13554" y="10572"/>
                  <a:pt x="13569" y="10573"/>
                  <a:pt x="13593" y="10542"/>
                </a:cubicBezTo>
                <a:cubicBezTo>
                  <a:pt x="13688" y="10653"/>
                  <a:pt x="13611" y="10745"/>
                  <a:pt x="13494" y="10840"/>
                </a:cubicBezTo>
                <a:cubicBezTo>
                  <a:pt x="13477" y="10848"/>
                  <a:pt x="13461" y="10856"/>
                  <a:pt x="13444" y="10864"/>
                </a:cubicBezTo>
                <a:cubicBezTo>
                  <a:pt x="13553" y="10838"/>
                  <a:pt x="13754" y="10844"/>
                  <a:pt x="13667" y="11038"/>
                </a:cubicBezTo>
                <a:cubicBezTo>
                  <a:pt x="13639" y="11100"/>
                  <a:pt x="13428" y="11281"/>
                  <a:pt x="13345" y="11212"/>
                </a:cubicBezTo>
                <a:cubicBezTo>
                  <a:pt x="13339" y="11207"/>
                  <a:pt x="13345" y="11146"/>
                  <a:pt x="13345" y="111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89640" y="3867120"/>
            <a:ext cx="18720" cy="285840"/>
          </a:xfrm>
          <a:custGeom>
            <a:avLst/>
            <a:gdLst/>
            <a:ahLst/>
            <a:rect l="l" t="t" r="r" b="b"/>
            <a:pathLst>
              <a:path w="50" h="795">
                <a:moveTo>
                  <a:pt x="12750" y="10740"/>
                </a:moveTo>
                <a:cubicBezTo>
                  <a:pt x="12766" y="10997"/>
                  <a:pt x="12793" y="11251"/>
                  <a:pt x="12799" y="11509"/>
                </a:cubicBezTo>
                <a:cubicBezTo>
                  <a:pt x="12799" y="11517"/>
                  <a:pt x="12799" y="11526"/>
                  <a:pt x="12799" y="115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24200" y="3660840"/>
            <a:ext cx="223920" cy="144360"/>
          </a:xfrm>
          <a:custGeom>
            <a:avLst/>
            <a:gdLst/>
            <a:ahLst/>
            <a:rect l="l" t="t" r="r" b="b"/>
            <a:pathLst>
              <a:path w="621" h="398">
                <a:moveTo>
                  <a:pt x="10344" y="10344"/>
                </a:moveTo>
                <a:cubicBezTo>
                  <a:pt x="10426" y="10411"/>
                  <a:pt x="10484" y="10465"/>
                  <a:pt x="10517" y="10567"/>
                </a:cubicBezTo>
                <a:cubicBezTo>
                  <a:pt x="10651" y="10478"/>
                  <a:pt x="10709" y="10288"/>
                  <a:pt x="10864" y="10195"/>
                </a:cubicBezTo>
                <a:cubicBezTo>
                  <a:pt x="10897" y="10187"/>
                  <a:pt x="10931" y="10178"/>
                  <a:pt x="10964" y="101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jective:  Students will solve for the unknown in subtraction equations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xamples: Solving Subtraction Equ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) 25 = g - 17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) x – 2.6 = 6.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.) n – 50 = 22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00040" y="3714840"/>
            <a:ext cx="2805120" cy="1492200"/>
          </a:xfrm>
          <a:custGeom>
            <a:avLst/>
            <a:gdLst/>
            <a:ahLst/>
            <a:rect l="l" t="t" r="r" b="b"/>
            <a:pathLst>
              <a:path w="7790" h="4143">
                <a:moveTo>
                  <a:pt x="2133" y="10840"/>
                </a:moveTo>
                <a:cubicBezTo>
                  <a:pt x="2498" y="10776"/>
                  <a:pt x="2880" y="10762"/>
                  <a:pt x="3249" y="10740"/>
                </a:cubicBezTo>
                <a:cubicBezTo>
                  <a:pt x="4815" y="10648"/>
                  <a:pt x="6374" y="10476"/>
                  <a:pt x="7938" y="10368"/>
                </a:cubicBezTo>
                <a:cubicBezTo>
                  <a:pt x="8334" y="10341"/>
                  <a:pt x="8732" y="10333"/>
                  <a:pt x="9128" y="10319"/>
                </a:cubicBezTo>
              </a:path>
              <a:path w="7790" h="4143">
                <a:moveTo>
                  <a:pt x="1439" y="13891"/>
                </a:moveTo>
                <a:cubicBezTo>
                  <a:pt x="1414" y="13891"/>
                  <a:pt x="1406" y="13891"/>
                  <a:pt x="1389" y="13891"/>
                </a:cubicBezTo>
              </a:path>
              <a:path w="7790" h="4143">
                <a:moveTo>
                  <a:pt x="2753" y="14436"/>
                </a:moveTo>
                <a:cubicBezTo>
                  <a:pt x="3080" y="14443"/>
                  <a:pt x="3394" y="14451"/>
                  <a:pt x="3721" y="14436"/>
                </a:cubicBezTo>
                <a:cubicBezTo>
                  <a:pt x="4548" y="14398"/>
                  <a:pt x="5376" y="14355"/>
                  <a:pt x="6201" y="14288"/>
                </a:cubicBezTo>
                <a:cubicBezTo>
                  <a:pt x="6886" y="14232"/>
                  <a:pt x="7573" y="14142"/>
                  <a:pt x="8260" y="14114"/>
                </a:cubicBezTo>
                <a:cubicBezTo>
                  <a:pt x="8566" y="14101"/>
                  <a:pt x="8875" y="14107"/>
                  <a:pt x="9178" y="14139"/>
                </a:cubicBezTo>
                <a:cubicBezTo>
                  <a:pt x="9170" y="14139"/>
                  <a:pt x="9161" y="14139"/>
                  <a:pt x="9153" y="141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2170080"/>
            <a:ext cx="1162080" cy="2803680"/>
          </a:xfrm>
          <a:custGeom>
            <a:avLst/>
            <a:gdLst/>
            <a:ahLst/>
            <a:rect l="l" t="t" r="r" b="b"/>
            <a:pathLst>
              <a:path w="3226" h="7789">
                <a:moveTo>
                  <a:pt x="3026" y="13816"/>
                </a:moveTo>
                <a:lnTo>
                  <a:pt x="3026" y="13816"/>
                </a:lnTo>
              </a:path>
              <a:path w="3226" h="7789">
                <a:moveTo>
                  <a:pt x="2778" y="12750"/>
                </a:moveTo>
                <a:cubicBezTo>
                  <a:pt x="2750" y="12833"/>
                  <a:pt x="2748" y="12851"/>
                  <a:pt x="2828" y="12750"/>
                </a:cubicBezTo>
              </a:path>
              <a:path w="3226" h="7789">
                <a:moveTo>
                  <a:pt x="4291" y="10319"/>
                </a:moveTo>
                <a:cubicBezTo>
                  <a:pt x="4291" y="10294"/>
                  <a:pt x="4291" y="10286"/>
                  <a:pt x="4266" y="10294"/>
                </a:cubicBezTo>
              </a:path>
              <a:path w="3226" h="7789">
                <a:moveTo>
                  <a:pt x="5928" y="6028"/>
                </a:moveTo>
                <a:cubicBezTo>
                  <a:pt x="5959" y="6113"/>
                  <a:pt x="5972" y="6186"/>
                  <a:pt x="5978" y="6276"/>
                </a:cubicBezTo>
              </a:path>
              <a:path w="3226" h="7789">
                <a:moveTo>
                  <a:pt x="4564" y="11361"/>
                </a:moveTo>
                <a:cubicBezTo>
                  <a:pt x="4678" y="11342"/>
                  <a:pt x="4778" y="11303"/>
                  <a:pt x="4887" y="112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82800" y="2125800"/>
            <a:ext cx="3724200" cy="1670040"/>
          </a:xfrm>
          <a:custGeom>
            <a:avLst/>
            <a:gdLst/>
            <a:ahLst/>
            <a:rect l="l" t="t" r="r" b="b"/>
            <a:pathLst>
              <a:path w="10344" h="4639">
                <a:moveTo>
                  <a:pt x="6573" y="5904"/>
                </a:moveTo>
                <a:cubicBezTo>
                  <a:pt x="6614" y="6033"/>
                  <a:pt x="6664" y="6153"/>
                  <a:pt x="6722" y="6276"/>
                </a:cubicBezTo>
              </a:path>
              <a:path w="10344" h="4639">
                <a:moveTo>
                  <a:pt x="6722" y="6276"/>
                </a:moveTo>
                <a:lnTo>
                  <a:pt x="6722" y="6276"/>
                </a:lnTo>
              </a:path>
              <a:path w="10344" h="4639">
                <a:moveTo>
                  <a:pt x="2729" y="6176"/>
                </a:moveTo>
                <a:cubicBezTo>
                  <a:pt x="2845" y="6129"/>
                  <a:pt x="2957" y="6094"/>
                  <a:pt x="3076" y="6052"/>
                </a:cubicBezTo>
              </a:path>
              <a:path w="10344" h="4639">
                <a:moveTo>
                  <a:pt x="3249" y="5928"/>
                </a:moveTo>
                <a:cubicBezTo>
                  <a:pt x="3289" y="6046"/>
                  <a:pt x="3334" y="6158"/>
                  <a:pt x="3373" y="6276"/>
                </a:cubicBezTo>
              </a:path>
              <a:path w="10344" h="4639">
                <a:moveTo>
                  <a:pt x="4862" y="7293"/>
                </a:moveTo>
                <a:cubicBezTo>
                  <a:pt x="4954" y="7273"/>
                  <a:pt x="5032" y="7263"/>
                  <a:pt x="5110" y="7218"/>
                </a:cubicBezTo>
              </a:path>
              <a:path w="10344" h="4639">
                <a:moveTo>
                  <a:pt x="13072" y="9798"/>
                </a:moveTo>
                <a:cubicBezTo>
                  <a:pt x="13072" y="9806"/>
                  <a:pt x="13072" y="9815"/>
                  <a:pt x="13072" y="9823"/>
                </a:cubicBezTo>
              </a:path>
              <a:path w="10344" h="4639">
                <a:moveTo>
                  <a:pt x="12477" y="10542"/>
                </a:moveTo>
                <a:cubicBezTo>
                  <a:pt x="12469" y="10542"/>
                  <a:pt x="12460" y="10542"/>
                  <a:pt x="12452" y="10542"/>
                </a:cubicBezTo>
              </a:path>
              <a:path w="10344" h="4639">
                <a:moveTo>
                  <a:pt x="9203" y="10492"/>
                </a:moveTo>
                <a:lnTo>
                  <a:pt x="9203" y="10492"/>
                </a:lnTo>
              </a:path>
              <a:path w="10344" h="4639">
                <a:moveTo>
                  <a:pt x="11658" y="9823"/>
                </a:moveTo>
                <a:cubicBezTo>
                  <a:pt x="11762" y="9807"/>
                  <a:pt x="11849" y="9763"/>
                  <a:pt x="11956" y="97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9080" y="2054160"/>
            <a:ext cx="2189160" cy="1108080"/>
          </a:xfrm>
          <a:custGeom>
            <a:avLst/>
            <a:gdLst/>
            <a:ahLst/>
            <a:rect l="l" t="t" r="r" b="b"/>
            <a:pathLst>
              <a:path w="6078" h="3077">
                <a:moveTo>
                  <a:pt x="5829" y="6201"/>
                </a:moveTo>
                <a:cubicBezTo>
                  <a:pt x="6033" y="6141"/>
                  <a:pt x="6240" y="6096"/>
                  <a:pt x="6449" y="6052"/>
                </a:cubicBezTo>
              </a:path>
              <a:path w="6078" h="3077">
                <a:moveTo>
                  <a:pt x="7020" y="5804"/>
                </a:moveTo>
                <a:cubicBezTo>
                  <a:pt x="7150" y="5789"/>
                  <a:pt x="7266" y="5740"/>
                  <a:pt x="7392" y="5705"/>
                </a:cubicBezTo>
                <a:cubicBezTo>
                  <a:pt x="7400" y="5705"/>
                  <a:pt x="7409" y="5705"/>
                  <a:pt x="7417" y="5705"/>
                </a:cubicBezTo>
                <a:cubicBezTo>
                  <a:pt x="7452" y="5919"/>
                  <a:pt x="7485" y="6136"/>
                  <a:pt x="7516" y="6350"/>
                </a:cubicBezTo>
              </a:path>
              <a:path w="6078" h="3077">
                <a:moveTo>
                  <a:pt x="2853" y="5953"/>
                </a:moveTo>
                <a:cubicBezTo>
                  <a:pt x="2853" y="6095"/>
                  <a:pt x="2873" y="6233"/>
                  <a:pt x="2877" y="6375"/>
                </a:cubicBezTo>
                <a:cubicBezTo>
                  <a:pt x="2877" y="6391"/>
                  <a:pt x="2877" y="6408"/>
                  <a:pt x="2877" y="6424"/>
                </a:cubicBezTo>
              </a:path>
              <a:path w="6078" h="3077">
                <a:moveTo>
                  <a:pt x="3597" y="5928"/>
                </a:moveTo>
                <a:cubicBezTo>
                  <a:pt x="3653" y="5928"/>
                  <a:pt x="3630" y="5950"/>
                  <a:pt x="3671" y="5953"/>
                </a:cubicBezTo>
                <a:cubicBezTo>
                  <a:pt x="3775" y="5961"/>
                  <a:pt x="3897" y="5866"/>
                  <a:pt x="3994" y="5829"/>
                </a:cubicBezTo>
                <a:cubicBezTo>
                  <a:pt x="3994" y="6006"/>
                  <a:pt x="3944" y="6174"/>
                  <a:pt x="3919" y="6350"/>
                </a:cubicBezTo>
                <a:cubicBezTo>
                  <a:pt x="3919" y="6375"/>
                  <a:pt x="3919" y="6383"/>
                  <a:pt x="3919" y="6400"/>
                </a:cubicBezTo>
              </a:path>
              <a:path w="6078" h="3077">
                <a:moveTo>
                  <a:pt x="2555" y="6970"/>
                </a:moveTo>
                <a:cubicBezTo>
                  <a:pt x="3198" y="6861"/>
                  <a:pt x="3840" y="6829"/>
                  <a:pt x="4490" y="6772"/>
                </a:cubicBezTo>
                <a:cubicBezTo>
                  <a:pt x="5515" y="6682"/>
                  <a:pt x="6539" y="6584"/>
                  <a:pt x="7565" y="6499"/>
                </a:cubicBezTo>
                <a:cubicBezTo>
                  <a:pt x="7920" y="6470"/>
                  <a:pt x="8277" y="6448"/>
                  <a:pt x="8632" y="6424"/>
                </a:cubicBezTo>
              </a:path>
              <a:path w="6078" h="3077">
                <a:moveTo>
                  <a:pt x="7541" y="6697"/>
                </a:moveTo>
                <a:cubicBezTo>
                  <a:pt x="7444" y="6823"/>
                  <a:pt x="7419" y="6897"/>
                  <a:pt x="7392" y="7045"/>
                </a:cubicBezTo>
                <a:cubicBezTo>
                  <a:pt x="7531" y="7006"/>
                  <a:pt x="7775" y="6827"/>
                  <a:pt x="7590" y="6648"/>
                </a:cubicBezTo>
                <a:cubicBezTo>
                  <a:pt x="7540" y="6640"/>
                  <a:pt x="7491" y="6631"/>
                  <a:pt x="7441" y="6623"/>
                </a:cubicBezTo>
              </a:path>
              <a:path w="6078" h="3077">
                <a:moveTo>
                  <a:pt x="5928" y="7268"/>
                </a:moveTo>
                <a:cubicBezTo>
                  <a:pt x="5911" y="7180"/>
                  <a:pt x="5821" y="7123"/>
                  <a:pt x="5730" y="7193"/>
                </a:cubicBezTo>
                <a:cubicBezTo>
                  <a:pt x="5587" y="7303"/>
                  <a:pt x="5609" y="7385"/>
                  <a:pt x="5655" y="7516"/>
                </a:cubicBezTo>
                <a:cubicBezTo>
                  <a:pt x="5823" y="7463"/>
                  <a:pt x="5887" y="7446"/>
                  <a:pt x="5953" y="7268"/>
                </a:cubicBezTo>
                <a:cubicBezTo>
                  <a:pt x="5991" y="7475"/>
                  <a:pt x="6083" y="7788"/>
                  <a:pt x="5953" y="7987"/>
                </a:cubicBezTo>
                <a:cubicBezTo>
                  <a:pt x="5803" y="8216"/>
                  <a:pt x="5594" y="8136"/>
                  <a:pt x="5432" y="8062"/>
                </a:cubicBezTo>
              </a:path>
              <a:path w="6078" h="3077">
                <a:moveTo>
                  <a:pt x="4688" y="7193"/>
                </a:moveTo>
                <a:cubicBezTo>
                  <a:pt x="4796" y="7172"/>
                  <a:pt x="4899" y="7117"/>
                  <a:pt x="5011" y="7094"/>
                </a:cubicBezTo>
                <a:cubicBezTo>
                  <a:pt x="5019" y="7094"/>
                  <a:pt x="5027" y="7094"/>
                  <a:pt x="5035" y="7094"/>
                </a:cubicBezTo>
              </a:path>
              <a:path w="6078" h="3077">
                <a:moveTo>
                  <a:pt x="3497" y="7119"/>
                </a:moveTo>
                <a:cubicBezTo>
                  <a:pt x="3483" y="7160"/>
                  <a:pt x="3462" y="7202"/>
                  <a:pt x="3448" y="7243"/>
                </a:cubicBezTo>
                <a:cubicBezTo>
                  <a:pt x="3552" y="7264"/>
                  <a:pt x="3611" y="7235"/>
                  <a:pt x="3721" y="7218"/>
                </a:cubicBezTo>
                <a:cubicBezTo>
                  <a:pt x="3737" y="7218"/>
                  <a:pt x="3754" y="7218"/>
                  <a:pt x="3770" y="7218"/>
                </a:cubicBezTo>
              </a:path>
              <a:path w="6078" h="3077">
                <a:moveTo>
                  <a:pt x="3746" y="6970"/>
                </a:moveTo>
                <a:cubicBezTo>
                  <a:pt x="3746" y="7099"/>
                  <a:pt x="3705" y="7460"/>
                  <a:pt x="3770" y="7417"/>
                </a:cubicBezTo>
              </a:path>
              <a:path w="6078" h="3077">
                <a:moveTo>
                  <a:pt x="3969" y="7020"/>
                </a:moveTo>
                <a:cubicBezTo>
                  <a:pt x="4056" y="6933"/>
                  <a:pt x="4078" y="6963"/>
                  <a:pt x="4192" y="6970"/>
                </a:cubicBezTo>
                <a:cubicBezTo>
                  <a:pt x="4208" y="7161"/>
                  <a:pt x="4100" y="7251"/>
                  <a:pt x="3969" y="7392"/>
                </a:cubicBezTo>
                <a:cubicBezTo>
                  <a:pt x="4118" y="7378"/>
                  <a:pt x="4264" y="7349"/>
                  <a:pt x="4415" y="7342"/>
                </a:cubicBezTo>
                <a:cubicBezTo>
                  <a:pt x="4423" y="7342"/>
                  <a:pt x="4432" y="7342"/>
                  <a:pt x="4440" y="7342"/>
                </a:cubicBezTo>
              </a:path>
              <a:path w="6078" h="3077">
                <a:moveTo>
                  <a:pt x="7218" y="8434"/>
                </a:moveTo>
                <a:cubicBezTo>
                  <a:pt x="7218" y="8561"/>
                  <a:pt x="7233" y="8660"/>
                  <a:pt x="7268" y="87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95320" y="3606840"/>
            <a:ext cx="955800" cy="108000"/>
          </a:xfrm>
          <a:custGeom>
            <a:avLst/>
            <a:gdLst/>
            <a:ahLst/>
            <a:rect l="l" t="t" r="r" b="b"/>
            <a:pathLst>
              <a:path w="2655" h="299">
                <a:moveTo>
                  <a:pt x="4986" y="10220"/>
                </a:moveTo>
                <a:cubicBezTo>
                  <a:pt x="4986" y="10228"/>
                  <a:pt x="4986" y="10236"/>
                  <a:pt x="4986" y="10244"/>
                </a:cubicBezTo>
              </a:path>
              <a:path w="2655" h="299">
                <a:moveTo>
                  <a:pt x="4986" y="10244"/>
                </a:moveTo>
                <a:lnTo>
                  <a:pt x="4986" y="10244"/>
                </a:lnTo>
              </a:path>
              <a:path w="2655" h="299">
                <a:moveTo>
                  <a:pt x="6573" y="10021"/>
                </a:moveTo>
                <a:cubicBezTo>
                  <a:pt x="6589" y="10099"/>
                  <a:pt x="6669" y="10240"/>
                  <a:pt x="6623" y="10319"/>
                </a:cubicBezTo>
                <a:cubicBezTo>
                  <a:pt x="6615" y="10302"/>
                  <a:pt x="6606" y="10286"/>
                  <a:pt x="6598" y="10269"/>
                </a:cubicBezTo>
              </a:path>
              <a:path w="2655" h="299">
                <a:moveTo>
                  <a:pt x="6945" y="10096"/>
                </a:moveTo>
                <a:lnTo>
                  <a:pt x="6945" y="10096"/>
                </a:lnTo>
              </a:path>
              <a:path w="2655" h="299">
                <a:moveTo>
                  <a:pt x="7615" y="10195"/>
                </a:moveTo>
                <a:cubicBezTo>
                  <a:pt x="7615" y="10220"/>
                  <a:pt x="7615" y="10228"/>
                  <a:pt x="7640" y="10220"/>
                </a:cubicBezTo>
              </a:path>
              <a:path w="2655" h="299">
                <a:moveTo>
                  <a:pt x="7640" y="10220"/>
                </a:moveTo>
                <a:lnTo>
                  <a:pt x="7640" y="1022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84200" y="3562200"/>
            <a:ext cx="347760" cy="152640"/>
          </a:xfrm>
          <a:custGeom>
            <a:avLst/>
            <a:gdLst/>
            <a:ahLst/>
            <a:rect l="l" t="t" r="r" b="b"/>
            <a:pathLst>
              <a:path w="968" h="423">
                <a:moveTo>
                  <a:pt x="3944" y="9897"/>
                </a:moveTo>
                <a:cubicBezTo>
                  <a:pt x="3961" y="10043"/>
                  <a:pt x="3994" y="10167"/>
                  <a:pt x="3994" y="10319"/>
                </a:cubicBezTo>
              </a:path>
              <a:path w="968" h="423">
                <a:moveTo>
                  <a:pt x="3845" y="10145"/>
                </a:moveTo>
                <a:cubicBezTo>
                  <a:pt x="3951" y="10115"/>
                  <a:pt x="4058" y="10087"/>
                  <a:pt x="4167" y="10071"/>
                </a:cubicBezTo>
              </a:path>
              <a:path w="968" h="423">
                <a:moveTo>
                  <a:pt x="4514" y="9947"/>
                </a:moveTo>
                <a:cubicBezTo>
                  <a:pt x="4549" y="9912"/>
                  <a:pt x="4571" y="9899"/>
                  <a:pt x="4614" y="9897"/>
                </a:cubicBezTo>
                <a:cubicBezTo>
                  <a:pt x="4736" y="10068"/>
                  <a:pt x="4767" y="10227"/>
                  <a:pt x="4514" y="10294"/>
                </a:cubicBezTo>
                <a:cubicBezTo>
                  <a:pt x="4473" y="10294"/>
                  <a:pt x="4431" y="10294"/>
                  <a:pt x="4390" y="10294"/>
                </a:cubicBezTo>
                <a:cubicBezTo>
                  <a:pt x="4390" y="10181"/>
                  <a:pt x="4529" y="10131"/>
                  <a:pt x="4638" y="10145"/>
                </a:cubicBezTo>
                <a:cubicBezTo>
                  <a:pt x="4734" y="10157"/>
                  <a:pt x="4760" y="10232"/>
                  <a:pt x="4812" y="102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84240" y="3554280"/>
            <a:ext cx="152640" cy="169920"/>
          </a:xfrm>
          <a:custGeom>
            <a:avLst/>
            <a:gdLst/>
            <a:ahLst/>
            <a:rect l="l" t="t" r="r" b="b"/>
            <a:pathLst>
              <a:path w="422" h="473">
                <a:moveTo>
                  <a:pt x="5259" y="9872"/>
                </a:moveTo>
                <a:cubicBezTo>
                  <a:pt x="5247" y="10052"/>
                  <a:pt x="5227" y="10173"/>
                  <a:pt x="5283" y="10344"/>
                </a:cubicBezTo>
                <a:cubicBezTo>
                  <a:pt x="5454" y="10334"/>
                  <a:pt x="5684" y="10317"/>
                  <a:pt x="5655" y="10071"/>
                </a:cubicBezTo>
                <a:cubicBezTo>
                  <a:pt x="5639" y="10063"/>
                  <a:pt x="5622" y="10054"/>
                  <a:pt x="5606" y="10046"/>
                </a:cubicBezTo>
                <a:cubicBezTo>
                  <a:pt x="5498" y="10144"/>
                  <a:pt x="5452" y="10197"/>
                  <a:pt x="5507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340000" y="3581280"/>
            <a:ext cx="322200" cy="142920"/>
          </a:xfrm>
          <a:custGeom>
            <a:avLst/>
            <a:gdLst/>
            <a:ahLst/>
            <a:rect l="l" t="t" r="r" b="b"/>
            <a:pathLst>
              <a:path w="894" h="398">
                <a:moveTo>
                  <a:pt x="6499" y="10220"/>
                </a:moveTo>
                <a:cubicBezTo>
                  <a:pt x="6648" y="10180"/>
                  <a:pt x="6797" y="10138"/>
                  <a:pt x="6945" y="10096"/>
                </a:cubicBezTo>
              </a:path>
              <a:path w="894" h="398">
                <a:moveTo>
                  <a:pt x="7069" y="9971"/>
                </a:moveTo>
                <a:cubicBezTo>
                  <a:pt x="7224" y="9951"/>
                  <a:pt x="7430" y="9964"/>
                  <a:pt x="7367" y="10195"/>
                </a:cubicBezTo>
                <a:cubicBezTo>
                  <a:pt x="7319" y="10373"/>
                  <a:pt x="7226" y="10336"/>
                  <a:pt x="7094" y="10319"/>
                </a:cubicBezTo>
                <a:cubicBezTo>
                  <a:pt x="7141" y="10241"/>
                  <a:pt x="7248" y="10207"/>
                  <a:pt x="7342" y="10269"/>
                </a:cubicBezTo>
                <a:cubicBezTo>
                  <a:pt x="7362" y="10310"/>
                  <a:pt x="7360" y="10326"/>
                  <a:pt x="7392" y="10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857680" y="3527280"/>
            <a:ext cx="152280" cy="187560"/>
          </a:xfrm>
          <a:custGeom>
            <a:avLst/>
            <a:gdLst/>
            <a:ahLst/>
            <a:rect l="l" t="t" r="r" b="b"/>
            <a:pathLst>
              <a:path w="422" h="522">
                <a:moveTo>
                  <a:pt x="7987" y="9798"/>
                </a:moveTo>
                <a:cubicBezTo>
                  <a:pt x="7940" y="9908"/>
                  <a:pt x="7909" y="10120"/>
                  <a:pt x="7962" y="10244"/>
                </a:cubicBezTo>
                <a:cubicBezTo>
                  <a:pt x="8074" y="10507"/>
                  <a:pt x="8302" y="10181"/>
                  <a:pt x="8359" y="10096"/>
                </a:cubicBezTo>
                <a:cubicBezTo>
                  <a:pt x="8195" y="10080"/>
                  <a:pt x="8146" y="10131"/>
                  <a:pt x="8161" y="102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03200" y="3990960"/>
            <a:ext cx="81000" cy="179280"/>
          </a:xfrm>
          <a:custGeom>
            <a:avLst/>
            <a:gdLst/>
            <a:ahLst/>
            <a:rect l="l" t="t" r="r" b="b"/>
            <a:pathLst>
              <a:path w="225" h="497">
                <a:moveTo>
                  <a:pt x="3621" y="11162"/>
                </a:moveTo>
                <a:cubicBezTo>
                  <a:pt x="3711" y="11287"/>
                  <a:pt x="3760" y="11688"/>
                  <a:pt x="3845" y="11559"/>
                </a:cubicBezTo>
                <a:cubicBezTo>
                  <a:pt x="3845" y="11542"/>
                  <a:pt x="3845" y="11526"/>
                  <a:pt x="3845" y="11509"/>
                </a:cubicBezTo>
              </a:path>
              <a:path w="225" h="497">
                <a:moveTo>
                  <a:pt x="3795" y="11088"/>
                </a:moveTo>
                <a:cubicBezTo>
                  <a:pt x="3780" y="11141"/>
                  <a:pt x="3623" y="11542"/>
                  <a:pt x="3671" y="11584"/>
                </a:cubicBezTo>
                <a:cubicBezTo>
                  <a:pt x="3688" y="11584"/>
                  <a:pt x="3704" y="11584"/>
                  <a:pt x="3721" y="115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89040" y="4037040"/>
            <a:ext cx="135000" cy="17280"/>
          </a:xfrm>
          <a:custGeom>
            <a:avLst/>
            <a:gdLst/>
            <a:ahLst/>
            <a:rect l="l" t="t" r="r" b="b"/>
            <a:pathLst>
              <a:path w="373" h="50">
                <a:moveTo>
                  <a:pt x="4415" y="11261"/>
                </a:moveTo>
                <a:cubicBezTo>
                  <a:pt x="4548" y="11249"/>
                  <a:pt x="4658" y="11218"/>
                  <a:pt x="4787" y="112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95760" y="3875040"/>
            <a:ext cx="214200" cy="206280"/>
          </a:xfrm>
          <a:custGeom>
            <a:avLst/>
            <a:gdLst/>
            <a:ahLst/>
            <a:rect l="l" t="t" r="r" b="b"/>
            <a:pathLst>
              <a:path w="596" h="572">
                <a:moveTo>
                  <a:pt x="8235" y="10765"/>
                </a:moveTo>
                <a:cubicBezTo>
                  <a:pt x="8302" y="10765"/>
                  <a:pt x="8152" y="10777"/>
                  <a:pt x="8086" y="10790"/>
                </a:cubicBezTo>
                <a:cubicBezTo>
                  <a:pt x="7935" y="10820"/>
                  <a:pt x="7944" y="10819"/>
                  <a:pt x="7938" y="10964"/>
                </a:cubicBezTo>
                <a:cubicBezTo>
                  <a:pt x="7938" y="10980"/>
                  <a:pt x="7938" y="10997"/>
                  <a:pt x="7938" y="11013"/>
                </a:cubicBezTo>
                <a:cubicBezTo>
                  <a:pt x="8053" y="10993"/>
                  <a:pt x="8166" y="10930"/>
                  <a:pt x="8285" y="10988"/>
                </a:cubicBezTo>
                <a:cubicBezTo>
                  <a:pt x="8526" y="11106"/>
                  <a:pt x="8192" y="11354"/>
                  <a:pt x="8037" y="11336"/>
                </a:cubicBezTo>
                <a:cubicBezTo>
                  <a:pt x="7872" y="11265"/>
                  <a:pt x="7821" y="11248"/>
                  <a:pt x="7764" y="111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394000" y="3821040"/>
            <a:ext cx="187200" cy="322200"/>
          </a:xfrm>
          <a:custGeom>
            <a:avLst/>
            <a:gdLst/>
            <a:ahLst/>
            <a:rect l="l" t="t" r="r" b="b"/>
            <a:pathLst>
              <a:path w="522" h="894">
                <a:moveTo>
                  <a:pt x="6970" y="10616"/>
                </a:moveTo>
                <a:cubicBezTo>
                  <a:pt x="6970" y="10649"/>
                  <a:pt x="6970" y="10666"/>
                  <a:pt x="6970" y="10691"/>
                </a:cubicBezTo>
                <a:cubicBezTo>
                  <a:pt x="6970" y="10740"/>
                  <a:pt x="6899" y="10601"/>
                  <a:pt x="6821" y="10616"/>
                </a:cubicBezTo>
                <a:cubicBezTo>
                  <a:pt x="6645" y="10649"/>
                  <a:pt x="6657" y="10895"/>
                  <a:pt x="6672" y="11013"/>
                </a:cubicBezTo>
                <a:cubicBezTo>
                  <a:pt x="6825" y="10966"/>
                  <a:pt x="6867" y="10868"/>
                  <a:pt x="6970" y="10740"/>
                </a:cubicBezTo>
                <a:cubicBezTo>
                  <a:pt x="6970" y="10914"/>
                  <a:pt x="6943" y="11089"/>
                  <a:pt x="6921" y="11261"/>
                </a:cubicBezTo>
                <a:cubicBezTo>
                  <a:pt x="6905" y="11390"/>
                  <a:pt x="6825" y="11555"/>
                  <a:pt x="6945" y="11435"/>
                </a:cubicBezTo>
              </a:path>
              <a:path w="522" h="894">
                <a:moveTo>
                  <a:pt x="7169" y="11286"/>
                </a:moveTo>
                <a:cubicBezTo>
                  <a:pt x="7169" y="11311"/>
                  <a:pt x="7169" y="11319"/>
                  <a:pt x="7169" y="112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87920" y="3178080"/>
            <a:ext cx="27000" cy="9720"/>
          </a:xfrm>
          <a:custGeom>
            <a:avLst/>
            <a:gdLst/>
            <a:ahLst/>
            <a:rect l="l" t="t" r="r" b="b"/>
            <a:pathLst>
              <a:path w="76" h="26">
                <a:moveTo>
                  <a:pt x="13022" y="8830"/>
                </a:moveTo>
                <a:cubicBezTo>
                  <a:pt x="13050" y="8858"/>
                  <a:pt x="13064" y="8867"/>
                  <a:pt x="13097" y="8855"/>
                </a:cubicBezTo>
              </a:path>
              <a:path w="76" h="26">
                <a:moveTo>
                  <a:pt x="13097" y="8855"/>
                </a:moveTo>
                <a:lnTo>
                  <a:pt x="13097" y="885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402080" y="2697120"/>
            <a:ext cx="662040" cy="1428840"/>
          </a:xfrm>
          <a:custGeom>
            <a:avLst/>
            <a:gdLst/>
            <a:ahLst/>
            <a:rect l="l" t="t" r="r" b="b"/>
            <a:pathLst>
              <a:path w="1836" h="3970">
                <a:moveTo>
                  <a:pt x="12799" y="8533"/>
                </a:moveTo>
                <a:cubicBezTo>
                  <a:pt x="12799" y="8438"/>
                  <a:pt x="12792" y="8433"/>
                  <a:pt x="12750" y="8334"/>
                </a:cubicBezTo>
                <a:cubicBezTo>
                  <a:pt x="12632" y="8323"/>
                  <a:pt x="12245" y="8489"/>
                  <a:pt x="12502" y="8657"/>
                </a:cubicBezTo>
                <a:cubicBezTo>
                  <a:pt x="12668" y="8766"/>
                  <a:pt x="12826" y="8493"/>
                  <a:pt x="12898" y="8409"/>
                </a:cubicBezTo>
                <a:cubicBezTo>
                  <a:pt x="12898" y="8401"/>
                  <a:pt x="12898" y="8392"/>
                  <a:pt x="12898" y="8384"/>
                </a:cubicBezTo>
                <a:cubicBezTo>
                  <a:pt x="12857" y="8593"/>
                  <a:pt x="12841" y="8807"/>
                  <a:pt x="12750" y="9004"/>
                </a:cubicBezTo>
                <a:cubicBezTo>
                  <a:pt x="12742" y="9012"/>
                  <a:pt x="12733" y="9021"/>
                  <a:pt x="12725" y="9029"/>
                </a:cubicBezTo>
              </a:path>
              <a:path w="1836" h="3970">
                <a:moveTo>
                  <a:pt x="13395" y="8359"/>
                </a:moveTo>
                <a:cubicBezTo>
                  <a:pt x="13395" y="8434"/>
                  <a:pt x="13395" y="8458"/>
                  <a:pt x="13395" y="8508"/>
                </a:cubicBezTo>
                <a:cubicBezTo>
                  <a:pt x="13538" y="8524"/>
                  <a:pt x="13672" y="8494"/>
                  <a:pt x="13667" y="8657"/>
                </a:cubicBezTo>
                <a:cubicBezTo>
                  <a:pt x="13643" y="8731"/>
                  <a:pt x="13634" y="8756"/>
                  <a:pt x="13568" y="8756"/>
                </a:cubicBezTo>
              </a:path>
              <a:path w="1836" h="3970">
                <a:moveTo>
                  <a:pt x="13618" y="8235"/>
                </a:moveTo>
                <a:cubicBezTo>
                  <a:pt x="13711" y="8203"/>
                  <a:pt x="13901" y="8096"/>
                  <a:pt x="13965" y="8161"/>
                </a:cubicBezTo>
              </a:path>
              <a:path w="1836" h="3970">
                <a:moveTo>
                  <a:pt x="12626" y="9426"/>
                </a:moveTo>
                <a:cubicBezTo>
                  <a:pt x="12626" y="9451"/>
                  <a:pt x="12626" y="9475"/>
                  <a:pt x="12626" y="9500"/>
                </a:cubicBezTo>
                <a:cubicBezTo>
                  <a:pt x="12626" y="9556"/>
                  <a:pt x="12624" y="9445"/>
                  <a:pt x="12650" y="9426"/>
                </a:cubicBezTo>
                <a:cubicBezTo>
                  <a:pt x="12886" y="9252"/>
                  <a:pt x="12875" y="9566"/>
                  <a:pt x="12824" y="9723"/>
                </a:cubicBezTo>
                <a:cubicBezTo>
                  <a:pt x="12755" y="9934"/>
                  <a:pt x="12561" y="10047"/>
                  <a:pt x="12427" y="9897"/>
                </a:cubicBezTo>
                <a:cubicBezTo>
                  <a:pt x="12583" y="9810"/>
                  <a:pt x="12695" y="9741"/>
                  <a:pt x="12824" y="9922"/>
                </a:cubicBezTo>
                <a:cubicBezTo>
                  <a:pt x="12824" y="9930"/>
                  <a:pt x="12824" y="9939"/>
                  <a:pt x="12824" y="9947"/>
                </a:cubicBezTo>
              </a:path>
              <a:path w="1836" h="3970">
                <a:moveTo>
                  <a:pt x="13370" y="9376"/>
                </a:moveTo>
                <a:cubicBezTo>
                  <a:pt x="13350" y="9512"/>
                  <a:pt x="13282" y="9661"/>
                  <a:pt x="13345" y="9798"/>
                </a:cubicBezTo>
                <a:cubicBezTo>
                  <a:pt x="13455" y="10037"/>
                  <a:pt x="13732" y="9723"/>
                  <a:pt x="13767" y="9599"/>
                </a:cubicBezTo>
                <a:cubicBezTo>
                  <a:pt x="13782" y="9547"/>
                  <a:pt x="13608" y="9653"/>
                  <a:pt x="13618" y="9823"/>
                </a:cubicBezTo>
              </a:path>
              <a:path w="1836" h="3970">
                <a:moveTo>
                  <a:pt x="12229" y="10220"/>
                </a:moveTo>
                <a:cubicBezTo>
                  <a:pt x="12826" y="10140"/>
                  <a:pt x="13412" y="10082"/>
                  <a:pt x="14015" y="10071"/>
                </a:cubicBezTo>
                <a:cubicBezTo>
                  <a:pt x="14031" y="10071"/>
                  <a:pt x="14048" y="10071"/>
                  <a:pt x="14064" y="10071"/>
                </a:cubicBezTo>
              </a:path>
              <a:path w="1836" h="3970">
                <a:moveTo>
                  <a:pt x="12675" y="7491"/>
                </a:moveTo>
                <a:cubicBezTo>
                  <a:pt x="12700" y="7678"/>
                  <a:pt x="12712" y="7852"/>
                  <a:pt x="12675" y="8037"/>
                </a:cubicBezTo>
              </a:path>
              <a:path w="1836" h="3970">
                <a:moveTo>
                  <a:pt x="12328" y="8359"/>
                </a:moveTo>
                <a:cubicBezTo>
                  <a:pt x="12328" y="8315"/>
                  <a:pt x="12325" y="8301"/>
                  <a:pt x="12353" y="8285"/>
                </a:cubicBezTo>
                <a:cubicBezTo>
                  <a:pt x="12501" y="8474"/>
                  <a:pt x="12622" y="8692"/>
                  <a:pt x="12774" y="8880"/>
                </a:cubicBezTo>
                <a:cubicBezTo>
                  <a:pt x="12830" y="8935"/>
                  <a:pt x="12828" y="8960"/>
                  <a:pt x="12874" y="8954"/>
                </a:cubicBezTo>
              </a:path>
              <a:path w="1836" h="3970">
                <a:moveTo>
                  <a:pt x="12750" y="7615"/>
                </a:moveTo>
                <a:cubicBezTo>
                  <a:pt x="12749" y="7612"/>
                  <a:pt x="12728" y="7544"/>
                  <a:pt x="12725" y="7541"/>
                </a:cubicBezTo>
                <a:cubicBezTo>
                  <a:pt x="12692" y="7515"/>
                  <a:pt x="12619" y="7516"/>
                  <a:pt x="12576" y="7516"/>
                </a:cubicBezTo>
                <a:cubicBezTo>
                  <a:pt x="12559" y="7516"/>
                  <a:pt x="12543" y="7516"/>
                  <a:pt x="12526" y="7516"/>
                </a:cubicBezTo>
                <a:cubicBezTo>
                  <a:pt x="12526" y="7597"/>
                  <a:pt x="12521" y="7624"/>
                  <a:pt x="12576" y="7689"/>
                </a:cubicBezTo>
                <a:cubicBezTo>
                  <a:pt x="12631" y="7754"/>
                  <a:pt x="12748" y="7812"/>
                  <a:pt x="12725" y="7913"/>
                </a:cubicBezTo>
                <a:cubicBezTo>
                  <a:pt x="12709" y="7986"/>
                  <a:pt x="12608" y="8023"/>
                  <a:pt x="12551" y="8037"/>
                </a:cubicBezTo>
                <a:cubicBezTo>
                  <a:pt x="12510" y="7955"/>
                  <a:pt x="12513" y="7907"/>
                  <a:pt x="12576" y="7838"/>
                </a:cubicBezTo>
                <a:cubicBezTo>
                  <a:pt x="12624" y="7786"/>
                  <a:pt x="12730" y="7733"/>
                  <a:pt x="12750" y="7689"/>
                </a:cubicBezTo>
                <a:cubicBezTo>
                  <a:pt x="12782" y="7619"/>
                  <a:pt x="12753" y="7598"/>
                  <a:pt x="12675" y="7590"/>
                </a:cubicBezTo>
                <a:cubicBezTo>
                  <a:pt x="12650" y="7590"/>
                  <a:pt x="12642" y="7590"/>
                  <a:pt x="12650" y="7615"/>
                </a:cubicBezTo>
              </a:path>
              <a:path w="1836" h="3970">
                <a:moveTo>
                  <a:pt x="13221" y="8161"/>
                </a:moveTo>
                <a:cubicBezTo>
                  <a:pt x="13221" y="8219"/>
                  <a:pt x="13221" y="8276"/>
                  <a:pt x="13221" y="8334"/>
                </a:cubicBezTo>
              </a:path>
              <a:path w="1836" h="3970">
                <a:moveTo>
                  <a:pt x="13618" y="10790"/>
                </a:moveTo>
                <a:cubicBezTo>
                  <a:pt x="13682" y="10790"/>
                  <a:pt x="13710" y="10797"/>
                  <a:pt x="13692" y="10716"/>
                </a:cubicBezTo>
                <a:cubicBezTo>
                  <a:pt x="13669" y="10614"/>
                  <a:pt x="13646" y="10604"/>
                  <a:pt x="13568" y="10542"/>
                </a:cubicBezTo>
                <a:cubicBezTo>
                  <a:pt x="13456" y="10570"/>
                  <a:pt x="13377" y="10712"/>
                  <a:pt x="13395" y="10840"/>
                </a:cubicBezTo>
                <a:cubicBezTo>
                  <a:pt x="13411" y="10865"/>
                  <a:pt x="13428" y="10889"/>
                  <a:pt x="13444" y="10914"/>
                </a:cubicBezTo>
                <a:cubicBezTo>
                  <a:pt x="13651" y="10928"/>
                  <a:pt x="13655" y="10826"/>
                  <a:pt x="13742" y="10641"/>
                </a:cubicBezTo>
                <a:cubicBezTo>
                  <a:pt x="13750" y="10625"/>
                  <a:pt x="13759" y="10608"/>
                  <a:pt x="13767" y="10592"/>
                </a:cubicBezTo>
                <a:cubicBezTo>
                  <a:pt x="13746" y="10777"/>
                  <a:pt x="13697" y="10956"/>
                  <a:pt x="13667" y="11137"/>
                </a:cubicBezTo>
                <a:cubicBezTo>
                  <a:pt x="13667" y="11195"/>
                  <a:pt x="13667" y="11204"/>
                  <a:pt x="13667" y="11237"/>
                </a:cubicBezTo>
              </a:path>
              <a:path w="1836" h="3970">
                <a:moveTo>
                  <a:pt x="13221" y="11261"/>
                </a:moveTo>
                <a:cubicBezTo>
                  <a:pt x="13209" y="11302"/>
                  <a:pt x="13196" y="11379"/>
                  <a:pt x="13196" y="11336"/>
                </a:cubicBezTo>
              </a:path>
              <a:path w="1836" h="3970">
                <a:moveTo>
                  <a:pt x="12576" y="10716"/>
                </a:moveTo>
                <a:cubicBezTo>
                  <a:pt x="12576" y="10885"/>
                  <a:pt x="12510" y="11073"/>
                  <a:pt x="12526" y="11237"/>
                </a:cubicBezTo>
                <a:cubicBezTo>
                  <a:pt x="12569" y="11364"/>
                  <a:pt x="12573" y="11395"/>
                  <a:pt x="12626" y="11460"/>
                </a:cubicBezTo>
                <a:cubicBezTo>
                  <a:pt x="12835" y="11361"/>
                  <a:pt x="12913" y="11242"/>
                  <a:pt x="12973" y="11013"/>
                </a:cubicBezTo>
                <a:cubicBezTo>
                  <a:pt x="12973" y="10978"/>
                  <a:pt x="12964" y="10965"/>
                  <a:pt x="12923" y="10964"/>
                </a:cubicBezTo>
                <a:cubicBezTo>
                  <a:pt x="12727" y="11083"/>
                  <a:pt x="12699" y="11150"/>
                  <a:pt x="12725" y="113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089240" y="4626000"/>
            <a:ext cx="804960" cy="517680"/>
          </a:xfrm>
          <a:custGeom>
            <a:avLst/>
            <a:gdLst/>
            <a:ahLst/>
            <a:rect l="l" t="t" r="r" b="b"/>
            <a:pathLst>
              <a:path w="2233" h="1440">
                <a:moveTo>
                  <a:pt x="11807" y="13097"/>
                </a:moveTo>
                <a:cubicBezTo>
                  <a:pt x="11923" y="13068"/>
                  <a:pt x="12023" y="12958"/>
                  <a:pt x="12154" y="13072"/>
                </a:cubicBezTo>
                <a:cubicBezTo>
                  <a:pt x="12335" y="13229"/>
                  <a:pt x="12087" y="13653"/>
                  <a:pt x="11881" y="13593"/>
                </a:cubicBezTo>
                <a:cubicBezTo>
                  <a:pt x="11865" y="13560"/>
                  <a:pt x="11848" y="13527"/>
                  <a:pt x="11832" y="13494"/>
                </a:cubicBezTo>
                <a:cubicBezTo>
                  <a:pt x="11981" y="13412"/>
                  <a:pt x="12126" y="13563"/>
                  <a:pt x="12254" y="13494"/>
                </a:cubicBezTo>
                <a:cubicBezTo>
                  <a:pt x="12279" y="13461"/>
                  <a:pt x="12303" y="13428"/>
                  <a:pt x="12328" y="13395"/>
                </a:cubicBezTo>
              </a:path>
              <a:path w="2233" h="1440">
                <a:moveTo>
                  <a:pt x="12353" y="12998"/>
                </a:moveTo>
                <a:cubicBezTo>
                  <a:pt x="12410" y="12983"/>
                  <a:pt x="12683" y="12889"/>
                  <a:pt x="12725" y="12948"/>
                </a:cubicBezTo>
                <a:cubicBezTo>
                  <a:pt x="12827" y="13090"/>
                  <a:pt x="12745" y="13266"/>
                  <a:pt x="12725" y="13419"/>
                </a:cubicBezTo>
              </a:path>
              <a:path w="2233" h="1440">
                <a:moveTo>
                  <a:pt x="13097" y="12849"/>
                </a:moveTo>
                <a:cubicBezTo>
                  <a:pt x="13088" y="13070"/>
                  <a:pt x="13058" y="13242"/>
                  <a:pt x="13146" y="13444"/>
                </a:cubicBezTo>
                <a:cubicBezTo>
                  <a:pt x="13329" y="13398"/>
                  <a:pt x="13387" y="13377"/>
                  <a:pt x="13519" y="13246"/>
                </a:cubicBezTo>
                <a:cubicBezTo>
                  <a:pt x="13454" y="13116"/>
                  <a:pt x="13309" y="13282"/>
                  <a:pt x="13271" y="13395"/>
                </a:cubicBezTo>
                <a:cubicBezTo>
                  <a:pt x="13271" y="13428"/>
                  <a:pt x="13271" y="13461"/>
                  <a:pt x="13271" y="13494"/>
                </a:cubicBezTo>
              </a:path>
              <a:path w="2233" h="1440">
                <a:moveTo>
                  <a:pt x="11361" y="14163"/>
                </a:moveTo>
                <a:cubicBezTo>
                  <a:pt x="11487" y="14119"/>
                  <a:pt x="11573" y="14089"/>
                  <a:pt x="11708" y="14089"/>
                </a:cubicBezTo>
              </a:path>
              <a:path w="2233" h="1440">
                <a:moveTo>
                  <a:pt x="12750" y="13791"/>
                </a:moveTo>
                <a:cubicBezTo>
                  <a:pt x="12702" y="13801"/>
                  <a:pt x="12668" y="13832"/>
                  <a:pt x="12650" y="13841"/>
                </a:cubicBezTo>
                <a:cubicBezTo>
                  <a:pt x="12595" y="13870"/>
                  <a:pt x="12607" y="13928"/>
                  <a:pt x="12601" y="13990"/>
                </a:cubicBezTo>
                <a:cubicBezTo>
                  <a:pt x="12687" y="13990"/>
                  <a:pt x="12796" y="13970"/>
                  <a:pt x="12874" y="14015"/>
                </a:cubicBezTo>
                <a:cubicBezTo>
                  <a:pt x="13008" y="14093"/>
                  <a:pt x="12996" y="14273"/>
                  <a:pt x="12824" y="14288"/>
                </a:cubicBezTo>
                <a:cubicBezTo>
                  <a:pt x="12724" y="14263"/>
                  <a:pt x="12690" y="14253"/>
                  <a:pt x="12650" y="14188"/>
                </a:cubicBezTo>
              </a:path>
              <a:path w="2233" h="1440">
                <a:moveTo>
                  <a:pt x="12650" y="13891"/>
                </a:moveTo>
                <a:cubicBezTo>
                  <a:pt x="12762" y="13845"/>
                  <a:pt x="12860" y="13802"/>
                  <a:pt x="12973" y="13791"/>
                </a:cubicBezTo>
              </a:path>
              <a:path w="2233" h="1440">
                <a:moveTo>
                  <a:pt x="13320" y="13742"/>
                </a:moveTo>
                <a:cubicBezTo>
                  <a:pt x="13285" y="13835"/>
                  <a:pt x="13154" y="14023"/>
                  <a:pt x="13295" y="14114"/>
                </a:cubicBezTo>
                <a:cubicBezTo>
                  <a:pt x="13487" y="14239"/>
                  <a:pt x="13669" y="13988"/>
                  <a:pt x="13568" y="13816"/>
                </a:cubicBezTo>
                <a:cubicBezTo>
                  <a:pt x="13481" y="13751"/>
                  <a:pt x="13463" y="13722"/>
                  <a:pt x="13395" y="137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366920" y="4991040"/>
            <a:ext cx="3625920" cy="474840"/>
          </a:xfrm>
          <a:custGeom>
            <a:avLst/>
            <a:gdLst/>
            <a:ahLst/>
            <a:rect l="l" t="t" r="r" b="b"/>
            <a:pathLst>
              <a:path w="10072" h="1315">
                <a:moveTo>
                  <a:pt x="3795" y="14089"/>
                </a:moveTo>
                <a:cubicBezTo>
                  <a:pt x="3912" y="14055"/>
                  <a:pt x="4024" y="14020"/>
                  <a:pt x="4142" y="13990"/>
                </a:cubicBezTo>
              </a:path>
              <a:path w="10072" h="1315">
                <a:moveTo>
                  <a:pt x="6921" y="13891"/>
                </a:moveTo>
                <a:cubicBezTo>
                  <a:pt x="7103" y="13891"/>
                  <a:pt x="7170" y="13890"/>
                  <a:pt x="7293" y="13866"/>
                </a:cubicBezTo>
              </a:path>
              <a:path w="10072" h="1315">
                <a:moveTo>
                  <a:pt x="5383" y="14486"/>
                </a:moveTo>
                <a:cubicBezTo>
                  <a:pt x="5322" y="14571"/>
                  <a:pt x="5287" y="14618"/>
                  <a:pt x="5333" y="14709"/>
                </a:cubicBezTo>
                <a:cubicBezTo>
                  <a:pt x="5377" y="14699"/>
                  <a:pt x="5646" y="14599"/>
                  <a:pt x="5507" y="14511"/>
                </a:cubicBezTo>
                <a:cubicBezTo>
                  <a:pt x="5474" y="14503"/>
                  <a:pt x="5440" y="14494"/>
                  <a:pt x="5407" y="14486"/>
                </a:cubicBezTo>
              </a:path>
              <a:path w="10072" h="1315">
                <a:moveTo>
                  <a:pt x="5879" y="15180"/>
                </a:moveTo>
                <a:cubicBezTo>
                  <a:pt x="5950" y="15110"/>
                  <a:pt x="6031" y="15079"/>
                  <a:pt x="6127" y="15106"/>
                </a:cubicBezTo>
              </a:path>
              <a:path w="10072" h="1315">
                <a:moveTo>
                  <a:pt x="11658" y="14833"/>
                </a:moveTo>
                <a:cubicBezTo>
                  <a:pt x="12023" y="14702"/>
                  <a:pt x="12384" y="14632"/>
                  <a:pt x="12774" y="14560"/>
                </a:cubicBezTo>
                <a:cubicBezTo>
                  <a:pt x="13083" y="14503"/>
                  <a:pt x="13582" y="14387"/>
                  <a:pt x="13866" y="14461"/>
                </a:cubicBezTo>
                <a:cubicBezTo>
                  <a:pt x="13858" y="14469"/>
                  <a:pt x="13849" y="14478"/>
                  <a:pt x="13841" y="144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4973760"/>
            <a:ext cx="231840" cy="571320"/>
          </a:xfrm>
          <a:custGeom>
            <a:avLst/>
            <a:gdLst/>
            <a:ahLst/>
            <a:rect l="l" t="t" r="r" b="b"/>
            <a:pathLst>
              <a:path w="646" h="1589">
                <a:moveTo>
                  <a:pt x="3894" y="13816"/>
                </a:moveTo>
                <a:cubicBezTo>
                  <a:pt x="3894" y="13940"/>
                  <a:pt x="3915" y="14063"/>
                  <a:pt x="3919" y="14188"/>
                </a:cubicBezTo>
                <a:cubicBezTo>
                  <a:pt x="3919" y="14230"/>
                  <a:pt x="3919" y="14255"/>
                  <a:pt x="3919" y="14213"/>
                </a:cubicBezTo>
              </a:path>
              <a:path w="646" h="1589">
                <a:moveTo>
                  <a:pt x="3597" y="14833"/>
                </a:moveTo>
                <a:cubicBezTo>
                  <a:pt x="3648" y="15011"/>
                  <a:pt x="3685" y="15174"/>
                  <a:pt x="3721" y="15354"/>
                </a:cubicBezTo>
                <a:cubicBezTo>
                  <a:pt x="3721" y="15400"/>
                  <a:pt x="3693" y="15112"/>
                  <a:pt x="3696" y="15081"/>
                </a:cubicBezTo>
                <a:cubicBezTo>
                  <a:pt x="3718" y="14827"/>
                  <a:pt x="3934" y="14766"/>
                  <a:pt x="4093" y="14957"/>
                </a:cubicBezTo>
                <a:cubicBezTo>
                  <a:pt x="4207" y="15093"/>
                  <a:pt x="4208" y="15241"/>
                  <a:pt x="4242" y="154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5800" y="4938840"/>
            <a:ext cx="1339560" cy="660240"/>
          </a:xfrm>
          <a:custGeom>
            <a:avLst/>
            <a:gdLst/>
            <a:ahLst/>
            <a:rect l="l" t="t" r="r" b="b"/>
            <a:pathLst>
              <a:path w="3721" h="1837">
                <a:moveTo>
                  <a:pt x="6995" y="13742"/>
                </a:moveTo>
                <a:cubicBezTo>
                  <a:pt x="6987" y="13734"/>
                  <a:pt x="6978" y="13725"/>
                  <a:pt x="6970" y="13717"/>
                </a:cubicBezTo>
                <a:cubicBezTo>
                  <a:pt x="6970" y="13842"/>
                  <a:pt x="6986" y="13980"/>
                  <a:pt x="6945" y="14089"/>
                </a:cubicBezTo>
              </a:path>
              <a:path w="3721" h="1837">
                <a:moveTo>
                  <a:pt x="5904" y="15032"/>
                </a:moveTo>
                <a:cubicBezTo>
                  <a:pt x="5956" y="14989"/>
                  <a:pt x="5984" y="14982"/>
                  <a:pt x="6052" y="14982"/>
                </a:cubicBezTo>
                <a:cubicBezTo>
                  <a:pt x="6044" y="14982"/>
                  <a:pt x="6036" y="14982"/>
                  <a:pt x="6028" y="14982"/>
                </a:cubicBezTo>
              </a:path>
              <a:path w="3721" h="1837">
                <a:moveTo>
                  <a:pt x="8334" y="14709"/>
                </a:moveTo>
                <a:cubicBezTo>
                  <a:pt x="8297" y="14840"/>
                  <a:pt x="8172" y="15036"/>
                  <a:pt x="8235" y="15180"/>
                </a:cubicBezTo>
                <a:cubicBezTo>
                  <a:pt x="8339" y="15419"/>
                  <a:pt x="8575" y="15115"/>
                  <a:pt x="8632" y="15032"/>
                </a:cubicBezTo>
                <a:cubicBezTo>
                  <a:pt x="8470" y="15015"/>
                  <a:pt x="8437" y="15117"/>
                  <a:pt x="8359" y="15255"/>
                </a:cubicBezTo>
              </a:path>
              <a:path w="3721" h="1837">
                <a:moveTo>
                  <a:pt x="7417" y="14858"/>
                </a:moveTo>
                <a:cubicBezTo>
                  <a:pt x="7498" y="14808"/>
                  <a:pt x="7613" y="14794"/>
                  <a:pt x="7714" y="14784"/>
                </a:cubicBezTo>
                <a:cubicBezTo>
                  <a:pt x="7722" y="14784"/>
                  <a:pt x="7731" y="14784"/>
                  <a:pt x="7739" y="14784"/>
                </a:cubicBezTo>
                <a:cubicBezTo>
                  <a:pt x="7716" y="14965"/>
                  <a:pt x="7685" y="15147"/>
                  <a:pt x="7665" y="15329"/>
                </a:cubicBezTo>
                <a:cubicBezTo>
                  <a:pt x="7665" y="15372"/>
                  <a:pt x="7659" y="15363"/>
                  <a:pt x="7640" y="15280"/>
                </a:cubicBezTo>
              </a:path>
              <a:path w="3721" h="1837">
                <a:moveTo>
                  <a:pt x="6796" y="15032"/>
                </a:moveTo>
                <a:cubicBezTo>
                  <a:pt x="6832" y="14961"/>
                  <a:pt x="6863" y="14940"/>
                  <a:pt x="6945" y="14957"/>
                </a:cubicBezTo>
                <a:cubicBezTo>
                  <a:pt x="7132" y="15117"/>
                  <a:pt x="7138" y="15317"/>
                  <a:pt x="6921" y="15503"/>
                </a:cubicBezTo>
                <a:cubicBezTo>
                  <a:pt x="6810" y="15547"/>
                  <a:pt x="6781" y="15573"/>
                  <a:pt x="6722" y="15503"/>
                </a:cubicBezTo>
                <a:cubicBezTo>
                  <a:pt x="6798" y="15230"/>
                  <a:pt x="6910" y="15312"/>
                  <a:pt x="7144" y="15429"/>
                </a:cubicBezTo>
                <a:cubicBezTo>
                  <a:pt x="7160" y="15437"/>
                  <a:pt x="7177" y="15445"/>
                  <a:pt x="7193" y="15453"/>
                </a:cubicBezTo>
              </a:path>
              <a:path w="3721" h="1837">
                <a:moveTo>
                  <a:pt x="9054" y="15156"/>
                </a:moveTo>
                <a:cubicBezTo>
                  <a:pt x="9070" y="15239"/>
                  <a:pt x="9079" y="15294"/>
                  <a:pt x="9079" y="15379"/>
                </a:cubicBezTo>
                <a:cubicBezTo>
                  <a:pt x="9259" y="15187"/>
                  <a:pt x="9416" y="14965"/>
                  <a:pt x="9624" y="148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79960" y="5375160"/>
            <a:ext cx="758880" cy="277920"/>
          </a:xfrm>
          <a:custGeom>
            <a:avLst/>
            <a:gdLst/>
            <a:ahLst/>
            <a:rect l="l" t="t" r="r" b="b"/>
            <a:pathLst>
              <a:path w="2109" h="770">
                <a:moveTo>
                  <a:pt x="13419" y="14932"/>
                </a:moveTo>
                <a:cubicBezTo>
                  <a:pt x="13391" y="15048"/>
                  <a:pt x="13245" y="15244"/>
                  <a:pt x="13370" y="15354"/>
                </a:cubicBezTo>
                <a:cubicBezTo>
                  <a:pt x="13498" y="15466"/>
                  <a:pt x="13662" y="15218"/>
                  <a:pt x="13717" y="15156"/>
                </a:cubicBezTo>
                <a:cubicBezTo>
                  <a:pt x="13709" y="15139"/>
                  <a:pt x="13700" y="15123"/>
                  <a:pt x="13692" y="15106"/>
                </a:cubicBezTo>
                <a:cubicBezTo>
                  <a:pt x="13538" y="15175"/>
                  <a:pt x="13496" y="15193"/>
                  <a:pt x="13469" y="15379"/>
                </a:cubicBezTo>
              </a:path>
              <a:path w="2109" h="770">
                <a:moveTo>
                  <a:pt x="12626" y="15081"/>
                </a:moveTo>
                <a:cubicBezTo>
                  <a:pt x="12657" y="15017"/>
                  <a:pt x="12681" y="14997"/>
                  <a:pt x="12750" y="15007"/>
                </a:cubicBezTo>
                <a:cubicBezTo>
                  <a:pt x="12938" y="15155"/>
                  <a:pt x="12946" y="15322"/>
                  <a:pt x="12700" y="15453"/>
                </a:cubicBezTo>
                <a:cubicBezTo>
                  <a:pt x="12659" y="15461"/>
                  <a:pt x="12617" y="15470"/>
                  <a:pt x="12576" y="15478"/>
                </a:cubicBezTo>
                <a:cubicBezTo>
                  <a:pt x="12576" y="15309"/>
                  <a:pt x="12631" y="15257"/>
                  <a:pt x="12799" y="15329"/>
                </a:cubicBezTo>
                <a:cubicBezTo>
                  <a:pt x="12882" y="15371"/>
                  <a:pt x="12898" y="15379"/>
                  <a:pt x="12948" y="15404"/>
                </a:cubicBezTo>
              </a:path>
              <a:path w="2109" h="770">
                <a:moveTo>
                  <a:pt x="11658" y="15255"/>
                </a:moveTo>
                <a:cubicBezTo>
                  <a:pt x="11803" y="15213"/>
                  <a:pt x="11951" y="15152"/>
                  <a:pt x="12030" y="15354"/>
                </a:cubicBezTo>
                <a:cubicBezTo>
                  <a:pt x="12114" y="15570"/>
                  <a:pt x="11811" y="15794"/>
                  <a:pt x="11633" y="15652"/>
                </a:cubicBezTo>
                <a:cubicBezTo>
                  <a:pt x="11625" y="15627"/>
                  <a:pt x="11617" y="15602"/>
                  <a:pt x="11609" y="15577"/>
                </a:cubicBezTo>
                <a:cubicBezTo>
                  <a:pt x="11776" y="15511"/>
                  <a:pt x="11856" y="15518"/>
                  <a:pt x="12005" y="156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77960" y="4894200"/>
            <a:ext cx="314280" cy="196920"/>
          </a:xfrm>
          <a:custGeom>
            <a:avLst/>
            <a:gdLst/>
            <a:ahLst/>
            <a:rect l="l" t="t" r="r" b="b"/>
            <a:pathLst>
              <a:path w="869" h="547">
                <a:moveTo>
                  <a:pt x="4961" y="13593"/>
                </a:moveTo>
                <a:cubicBezTo>
                  <a:pt x="4928" y="13598"/>
                  <a:pt x="4784" y="13612"/>
                  <a:pt x="4762" y="13643"/>
                </a:cubicBezTo>
                <a:cubicBezTo>
                  <a:pt x="4713" y="13742"/>
                  <a:pt x="4697" y="13775"/>
                  <a:pt x="4663" y="13841"/>
                </a:cubicBezTo>
                <a:cubicBezTo>
                  <a:pt x="4746" y="13817"/>
                  <a:pt x="4894" y="13713"/>
                  <a:pt x="4986" y="13791"/>
                </a:cubicBezTo>
                <a:cubicBezTo>
                  <a:pt x="5130" y="13914"/>
                  <a:pt x="4973" y="14152"/>
                  <a:pt x="4812" y="14139"/>
                </a:cubicBezTo>
                <a:cubicBezTo>
                  <a:pt x="4729" y="14097"/>
                  <a:pt x="4688" y="14097"/>
                  <a:pt x="4738" y="14039"/>
                </a:cubicBezTo>
              </a:path>
              <a:path w="869" h="547">
                <a:moveTo>
                  <a:pt x="5259" y="13643"/>
                </a:moveTo>
                <a:cubicBezTo>
                  <a:pt x="5132" y="13802"/>
                  <a:pt x="5104" y="13825"/>
                  <a:pt x="5135" y="14015"/>
                </a:cubicBezTo>
                <a:cubicBezTo>
                  <a:pt x="5207" y="14003"/>
                  <a:pt x="5720" y="13879"/>
                  <a:pt x="5482" y="13717"/>
                </a:cubicBezTo>
                <a:cubicBezTo>
                  <a:pt x="5441" y="13709"/>
                  <a:pt x="5399" y="13700"/>
                  <a:pt x="5358" y="136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714760" y="4919760"/>
            <a:ext cx="152280" cy="171360"/>
          </a:xfrm>
          <a:custGeom>
            <a:avLst/>
            <a:gdLst/>
            <a:ahLst/>
            <a:rect l="l" t="t" r="r" b="b"/>
            <a:pathLst>
              <a:path w="422" h="473">
                <a:moveTo>
                  <a:pt x="7838" y="13667"/>
                </a:moveTo>
                <a:cubicBezTo>
                  <a:pt x="7763" y="13667"/>
                  <a:pt x="7680" y="13673"/>
                  <a:pt x="7615" y="13717"/>
                </a:cubicBezTo>
                <a:cubicBezTo>
                  <a:pt x="7550" y="13761"/>
                  <a:pt x="7569" y="13808"/>
                  <a:pt x="7541" y="13866"/>
                </a:cubicBezTo>
                <a:cubicBezTo>
                  <a:pt x="7644" y="13866"/>
                  <a:pt x="7732" y="13830"/>
                  <a:pt x="7838" y="13841"/>
                </a:cubicBezTo>
                <a:cubicBezTo>
                  <a:pt x="8085" y="13866"/>
                  <a:pt x="7912" y="14101"/>
                  <a:pt x="7764" y="14139"/>
                </a:cubicBezTo>
                <a:cubicBezTo>
                  <a:pt x="7639" y="14139"/>
                  <a:pt x="7598" y="14138"/>
                  <a:pt x="7615" y="140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928960" y="4929120"/>
            <a:ext cx="179280" cy="115920"/>
          </a:xfrm>
          <a:custGeom>
            <a:avLst/>
            <a:gdLst/>
            <a:ahLst/>
            <a:rect l="l" t="t" r="r" b="b"/>
            <a:pathLst>
              <a:path w="497" h="324">
                <a:moveTo>
                  <a:pt x="8235" y="13717"/>
                </a:moveTo>
                <a:cubicBezTo>
                  <a:pt x="8136" y="13791"/>
                  <a:pt x="8103" y="13816"/>
                  <a:pt x="8136" y="13915"/>
                </a:cubicBezTo>
                <a:cubicBezTo>
                  <a:pt x="8215" y="13974"/>
                  <a:pt x="8688" y="14042"/>
                  <a:pt x="8632" y="13791"/>
                </a:cubicBezTo>
                <a:cubicBezTo>
                  <a:pt x="8491" y="13679"/>
                  <a:pt x="8428" y="13646"/>
                  <a:pt x="8285" y="136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S subtraction and addition proble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7:59:31Z</dcterms:created>
  <dc:creator>ccps</dc:creator>
  <dc:description/>
  <dc:language>en-US</dc:language>
  <cp:lastModifiedBy>deanne elizabeth mcgrath</cp:lastModifiedBy>
  <dcterms:modified xsi:type="dcterms:W3CDTF">2011-12-08T20:08:33Z</dcterms:modified>
  <cp:revision>25</cp:revision>
  <dc:subject/>
  <dc:title>Chapter 2 Integer Operations</dc:title>
</cp:coreProperties>
</file>